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E0D562-46BE-4588-8A86-B0EE29808F9B}"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B14801-D710-4A9D-8A4C-06DF9FF1228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597" name="PlaceHolder 1"/>
          <p:cNvSpPr>
            <a:spLocks noGrp="1"/>
          </p:cNvSpPr>
          <p:nvPr>
            <p:ph type="sldImg"/>
          </p:nvPr>
        </p:nvSpPr>
        <p:spPr>
          <a:xfrm>
            <a:off x="985680" y="733320"/>
            <a:ext cx="4886640" cy="3665520"/>
          </a:xfrm>
          <a:prstGeom prst="rect">
            <a:avLst/>
          </a:prstGeom>
          <a:ln w="0">
            <a:noFill/>
          </a:ln>
        </p:spPr>
      </p:sp>
      <p:sp>
        <p:nvSpPr>
          <p:cNvPr id="6598"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780AD9-6E41-4386-A0C0-FFF5375BAD2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34CF9E-809A-4AD2-B6B5-4E6BC086E49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33" name="PlaceHolder 1"/>
          <p:cNvSpPr>
            <a:spLocks noGrp="1"/>
          </p:cNvSpPr>
          <p:nvPr>
            <p:ph type="sldImg"/>
          </p:nvPr>
        </p:nvSpPr>
        <p:spPr>
          <a:xfrm>
            <a:off x="985680" y="741240"/>
            <a:ext cx="4886640" cy="3665520"/>
          </a:xfrm>
          <a:prstGeom prst="rect">
            <a:avLst/>
          </a:prstGeom>
          <a:ln w="0">
            <a:noFill/>
          </a:ln>
        </p:spPr>
      </p:sp>
      <p:sp>
        <p:nvSpPr>
          <p:cNvPr id="66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7DCEA4-E805-4DAA-A22C-36AB973A419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80C3EF-350C-4BB0-AFE8-D661D67E658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37" name="PlaceHolder 1"/>
          <p:cNvSpPr>
            <a:spLocks noGrp="1"/>
          </p:cNvSpPr>
          <p:nvPr>
            <p:ph type="sldImg"/>
          </p:nvPr>
        </p:nvSpPr>
        <p:spPr>
          <a:xfrm>
            <a:off x="985680" y="741240"/>
            <a:ext cx="4886640" cy="3665520"/>
          </a:xfrm>
          <a:prstGeom prst="rect">
            <a:avLst/>
          </a:prstGeom>
          <a:ln w="0">
            <a:noFill/>
          </a:ln>
        </p:spPr>
      </p:sp>
      <p:sp>
        <p:nvSpPr>
          <p:cNvPr id="66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EA137F-3945-46CB-AFC5-2E42CB747A4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2FD2FA-F899-414D-83AE-A97ACFDFB33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41" name="PlaceHolder 1"/>
          <p:cNvSpPr>
            <a:spLocks noGrp="1"/>
          </p:cNvSpPr>
          <p:nvPr>
            <p:ph type="sldImg"/>
          </p:nvPr>
        </p:nvSpPr>
        <p:spPr>
          <a:xfrm>
            <a:off x="985680" y="741240"/>
            <a:ext cx="4886640" cy="3665520"/>
          </a:xfrm>
          <a:prstGeom prst="rect">
            <a:avLst/>
          </a:prstGeom>
          <a:ln w="0">
            <a:noFill/>
          </a:ln>
        </p:spPr>
      </p:sp>
      <p:sp>
        <p:nvSpPr>
          <p:cNvPr id="66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35BB0E-46D8-46C6-AAB2-7ED2064474C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4EF230-23A7-4A49-A78D-35928777584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45" name="PlaceHolder 1"/>
          <p:cNvSpPr>
            <a:spLocks noGrp="1"/>
          </p:cNvSpPr>
          <p:nvPr>
            <p:ph type="sldImg"/>
          </p:nvPr>
        </p:nvSpPr>
        <p:spPr>
          <a:xfrm>
            <a:off x="985680" y="741240"/>
            <a:ext cx="4886640" cy="3665520"/>
          </a:xfrm>
          <a:prstGeom prst="rect">
            <a:avLst/>
          </a:prstGeom>
          <a:ln w="0">
            <a:noFill/>
          </a:ln>
        </p:spPr>
      </p:sp>
      <p:sp>
        <p:nvSpPr>
          <p:cNvPr id="66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DBB7C9-3ABE-4261-ADBA-3D76C2F0797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0A90C5-BEE2-454E-A95B-2835CC16B32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49" name="PlaceHolder 1"/>
          <p:cNvSpPr>
            <a:spLocks noGrp="1"/>
          </p:cNvSpPr>
          <p:nvPr>
            <p:ph type="sldImg"/>
          </p:nvPr>
        </p:nvSpPr>
        <p:spPr>
          <a:xfrm>
            <a:off x="985680" y="741240"/>
            <a:ext cx="4886640" cy="3665520"/>
          </a:xfrm>
          <a:prstGeom prst="rect">
            <a:avLst/>
          </a:prstGeom>
          <a:ln w="0">
            <a:noFill/>
          </a:ln>
        </p:spPr>
      </p:sp>
      <p:sp>
        <p:nvSpPr>
          <p:cNvPr id="66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CDC6B4-1667-4983-AA5C-443DE0234F9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6A9A50-5339-4A19-BFCE-1857D84F7B7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53" name="PlaceHolder 1"/>
          <p:cNvSpPr>
            <a:spLocks noGrp="1"/>
          </p:cNvSpPr>
          <p:nvPr>
            <p:ph type="sldImg"/>
          </p:nvPr>
        </p:nvSpPr>
        <p:spPr>
          <a:xfrm>
            <a:off x="985680" y="741240"/>
            <a:ext cx="4886640" cy="3665520"/>
          </a:xfrm>
          <a:prstGeom prst="rect">
            <a:avLst/>
          </a:prstGeom>
          <a:ln w="0">
            <a:noFill/>
          </a:ln>
        </p:spPr>
      </p:sp>
      <p:sp>
        <p:nvSpPr>
          <p:cNvPr id="66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60D22A-D2F1-40B6-829C-E0F8E169DB2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DE465A-545A-42A2-BE96-7CF0DBB5268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57" name="PlaceHolder 1"/>
          <p:cNvSpPr>
            <a:spLocks noGrp="1"/>
          </p:cNvSpPr>
          <p:nvPr>
            <p:ph type="sldImg"/>
          </p:nvPr>
        </p:nvSpPr>
        <p:spPr>
          <a:xfrm>
            <a:off x="985680" y="741240"/>
            <a:ext cx="4886640" cy="3665520"/>
          </a:xfrm>
          <a:prstGeom prst="rect">
            <a:avLst/>
          </a:prstGeom>
          <a:ln w="0">
            <a:noFill/>
          </a:ln>
        </p:spPr>
      </p:sp>
      <p:sp>
        <p:nvSpPr>
          <p:cNvPr id="66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F42243-AA71-45BD-9E58-B94EB03B327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3269DA-9792-4B53-A79A-F9C7A6A1C64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61" name="PlaceHolder 1"/>
          <p:cNvSpPr>
            <a:spLocks noGrp="1"/>
          </p:cNvSpPr>
          <p:nvPr>
            <p:ph type="sldImg"/>
          </p:nvPr>
        </p:nvSpPr>
        <p:spPr>
          <a:xfrm>
            <a:off x="985680" y="741240"/>
            <a:ext cx="4886640" cy="3665520"/>
          </a:xfrm>
          <a:prstGeom prst="rect">
            <a:avLst/>
          </a:prstGeom>
          <a:ln w="0">
            <a:noFill/>
          </a:ln>
        </p:spPr>
      </p:sp>
      <p:sp>
        <p:nvSpPr>
          <p:cNvPr id="6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78C319-1D52-44BE-A93C-E38930737F9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4829CC-E3A4-40CF-8E08-C5308BC0791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65" name="PlaceHolder 1"/>
          <p:cNvSpPr>
            <a:spLocks noGrp="1"/>
          </p:cNvSpPr>
          <p:nvPr>
            <p:ph type="sldImg"/>
          </p:nvPr>
        </p:nvSpPr>
        <p:spPr>
          <a:xfrm>
            <a:off x="985680" y="741240"/>
            <a:ext cx="4886640" cy="3665520"/>
          </a:xfrm>
          <a:prstGeom prst="rect">
            <a:avLst/>
          </a:prstGeom>
          <a:ln w="0">
            <a:noFill/>
          </a:ln>
        </p:spPr>
      </p:sp>
      <p:sp>
        <p:nvSpPr>
          <p:cNvPr id="66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74B090-6B68-448B-BBB1-F64A3A7DC89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51C3E7-3E92-4C30-A983-570DA64297F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69" name="PlaceHolder 1"/>
          <p:cNvSpPr>
            <a:spLocks noGrp="1"/>
          </p:cNvSpPr>
          <p:nvPr>
            <p:ph type="sldImg"/>
          </p:nvPr>
        </p:nvSpPr>
        <p:spPr>
          <a:xfrm>
            <a:off x="985680" y="741240"/>
            <a:ext cx="4886640" cy="3665520"/>
          </a:xfrm>
          <a:prstGeom prst="rect">
            <a:avLst/>
          </a:prstGeom>
          <a:ln w="0">
            <a:noFill/>
          </a:ln>
        </p:spPr>
      </p:sp>
      <p:sp>
        <p:nvSpPr>
          <p:cNvPr id="66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648B3D-0C50-447B-8917-017D18D881C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19ADD8-14F3-4CA3-AA1A-AAD552945A5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01" name="PlaceHolder 1"/>
          <p:cNvSpPr>
            <a:spLocks noGrp="1"/>
          </p:cNvSpPr>
          <p:nvPr>
            <p:ph type="sldImg"/>
          </p:nvPr>
        </p:nvSpPr>
        <p:spPr>
          <a:xfrm>
            <a:off x="985680" y="741240"/>
            <a:ext cx="4886640" cy="3665520"/>
          </a:xfrm>
          <a:prstGeom prst="rect">
            <a:avLst/>
          </a:prstGeom>
          <a:ln w="0">
            <a:noFill/>
          </a:ln>
        </p:spPr>
      </p:sp>
      <p:sp>
        <p:nvSpPr>
          <p:cNvPr id="66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55DCDF-0220-4BF1-959E-61492F7E24F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1DC3F1-4B77-4099-A33E-56E8F639956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73" name="PlaceHolder 1"/>
          <p:cNvSpPr>
            <a:spLocks noGrp="1"/>
          </p:cNvSpPr>
          <p:nvPr>
            <p:ph type="sldImg"/>
          </p:nvPr>
        </p:nvSpPr>
        <p:spPr>
          <a:xfrm>
            <a:off x="985680" y="741240"/>
            <a:ext cx="4886640" cy="3665520"/>
          </a:xfrm>
          <a:prstGeom prst="rect">
            <a:avLst/>
          </a:prstGeom>
          <a:ln w="0">
            <a:noFill/>
          </a:ln>
        </p:spPr>
      </p:sp>
      <p:sp>
        <p:nvSpPr>
          <p:cNvPr id="6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9D0DEE-311E-456D-8113-01F78482FA1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8E1E68-BA2F-4824-AF98-F44B90EE907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77" name="PlaceHolder 1"/>
          <p:cNvSpPr>
            <a:spLocks noGrp="1"/>
          </p:cNvSpPr>
          <p:nvPr>
            <p:ph type="sldImg"/>
          </p:nvPr>
        </p:nvSpPr>
        <p:spPr>
          <a:xfrm>
            <a:off x="985680" y="741240"/>
            <a:ext cx="4886640" cy="3665520"/>
          </a:xfrm>
          <a:prstGeom prst="rect">
            <a:avLst/>
          </a:prstGeom>
          <a:ln w="0">
            <a:noFill/>
          </a:ln>
        </p:spPr>
      </p:sp>
      <p:sp>
        <p:nvSpPr>
          <p:cNvPr id="66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E5557D-7A9A-4555-8B78-EDF776BC3C0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511412-BB9A-44F0-A40E-2C87147D032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81" name="PlaceHolder 1"/>
          <p:cNvSpPr>
            <a:spLocks noGrp="1"/>
          </p:cNvSpPr>
          <p:nvPr>
            <p:ph type="sldImg"/>
          </p:nvPr>
        </p:nvSpPr>
        <p:spPr>
          <a:xfrm>
            <a:off x="985680" y="741240"/>
            <a:ext cx="4886640" cy="3665520"/>
          </a:xfrm>
          <a:prstGeom prst="rect">
            <a:avLst/>
          </a:prstGeom>
          <a:ln w="0">
            <a:noFill/>
          </a:ln>
        </p:spPr>
      </p:sp>
      <p:sp>
        <p:nvSpPr>
          <p:cNvPr id="66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363265-A5B2-49A8-9FD9-2399920AB09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84" name="PlaceHolder 1"/>
          <p:cNvSpPr>
            <a:spLocks noGrp="1"/>
          </p:cNvSpPr>
          <p:nvPr>
            <p:ph type="sldImg"/>
          </p:nvPr>
        </p:nvSpPr>
        <p:spPr>
          <a:xfrm>
            <a:off x="985680" y="733320"/>
            <a:ext cx="4886640" cy="3665520"/>
          </a:xfrm>
          <a:prstGeom prst="rect">
            <a:avLst/>
          </a:prstGeom>
          <a:ln w="0">
            <a:noFill/>
          </a:ln>
        </p:spPr>
      </p:sp>
      <p:sp>
        <p:nvSpPr>
          <p:cNvPr id="6685"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F8F52A-CB4F-4679-9D55-FFDCAF4C39A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FB31CE-7D5B-4937-AC23-AC0D07E3F7D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05" name="PlaceHolder 1"/>
          <p:cNvSpPr>
            <a:spLocks noGrp="1"/>
          </p:cNvSpPr>
          <p:nvPr>
            <p:ph type="sldImg"/>
          </p:nvPr>
        </p:nvSpPr>
        <p:spPr>
          <a:xfrm>
            <a:off x="985680" y="741240"/>
            <a:ext cx="4886640" cy="3665520"/>
          </a:xfrm>
          <a:prstGeom prst="rect">
            <a:avLst/>
          </a:prstGeom>
          <a:ln w="0">
            <a:noFill/>
          </a:ln>
        </p:spPr>
      </p:sp>
      <p:sp>
        <p:nvSpPr>
          <p:cNvPr id="66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A0129A-4D51-4ABF-A32F-7D5482A2DFF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11B83D-3468-4468-885D-EDA07918B96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09" name="PlaceHolder 1"/>
          <p:cNvSpPr>
            <a:spLocks noGrp="1"/>
          </p:cNvSpPr>
          <p:nvPr>
            <p:ph type="sldImg"/>
          </p:nvPr>
        </p:nvSpPr>
        <p:spPr>
          <a:xfrm>
            <a:off x="985680" y="741240"/>
            <a:ext cx="4886640" cy="3665520"/>
          </a:xfrm>
          <a:prstGeom prst="rect">
            <a:avLst/>
          </a:prstGeom>
          <a:ln w="0">
            <a:noFill/>
          </a:ln>
        </p:spPr>
      </p:sp>
      <p:sp>
        <p:nvSpPr>
          <p:cNvPr id="66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79FA6D-05C9-413B-B2B2-1581FDD23E5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3B5493-C0D3-48D0-B16B-FC89E9D529D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13" name="PlaceHolder 1"/>
          <p:cNvSpPr>
            <a:spLocks noGrp="1"/>
          </p:cNvSpPr>
          <p:nvPr>
            <p:ph type="sldImg"/>
          </p:nvPr>
        </p:nvSpPr>
        <p:spPr>
          <a:xfrm>
            <a:off x="985680" y="741240"/>
            <a:ext cx="4886640" cy="3665520"/>
          </a:xfrm>
          <a:prstGeom prst="rect">
            <a:avLst/>
          </a:prstGeom>
          <a:ln w="0">
            <a:noFill/>
          </a:ln>
        </p:spPr>
      </p:sp>
      <p:sp>
        <p:nvSpPr>
          <p:cNvPr id="66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9FFEFA-0077-47F1-A1A1-22755FAF6EE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151D1F-0B76-4268-9A98-DA106A5281B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17" name="PlaceHolder 1"/>
          <p:cNvSpPr>
            <a:spLocks noGrp="1"/>
          </p:cNvSpPr>
          <p:nvPr>
            <p:ph type="sldImg"/>
          </p:nvPr>
        </p:nvSpPr>
        <p:spPr>
          <a:xfrm>
            <a:off x="985680" y="741240"/>
            <a:ext cx="4886640" cy="3665520"/>
          </a:xfrm>
          <a:prstGeom prst="rect">
            <a:avLst/>
          </a:prstGeom>
          <a:ln w="0">
            <a:noFill/>
          </a:ln>
        </p:spPr>
      </p:sp>
      <p:sp>
        <p:nvSpPr>
          <p:cNvPr id="66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CF2640-34F4-4540-BFE4-1AA8C144803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02925F-11F5-4D3A-B18B-63E54756DF7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21" name="PlaceHolder 1"/>
          <p:cNvSpPr>
            <a:spLocks noGrp="1"/>
          </p:cNvSpPr>
          <p:nvPr>
            <p:ph type="sldImg"/>
          </p:nvPr>
        </p:nvSpPr>
        <p:spPr>
          <a:xfrm>
            <a:off x="985680" y="741240"/>
            <a:ext cx="4886640" cy="3665520"/>
          </a:xfrm>
          <a:prstGeom prst="rect">
            <a:avLst/>
          </a:prstGeom>
          <a:ln w="0">
            <a:noFill/>
          </a:ln>
        </p:spPr>
      </p:sp>
      <p:sp>
        <p:nvSpPr>
          <p:cNvPr id="66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EB0E92-A710-4425-B51A-57591B431F9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51839D-1654-4B15-A16E-DAC5940B377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25" name="PlaceHolder 1"/>
          <p:cNvSpPr>
            <a:spLocks noGrp="1"/>
          </p:cNvSpPr>
          <p:nvPr>
            <p:ph type="sldImg"/>
          </p:nvPr>
        </p:nvSpPr>
        <p:spPr>
          <a:xfrm>
            <a:off x="985680" y="741240"/>
            <a:ext cx="4886640" cy="3665520"/>
          </a:xfrm>
          <a:prstGeom prst="rect">
            <a:avLst/>
          </a:prstGeom>
          <a:ln w="0">
            <a:noFill/>
          </a:ln>
        </p:spPr>
      </p:sp>
      <p:sp>
        <p:nvSpPr>
          <p:cNvPr id="66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4D086F-1C29-4A71-AAA6-605E1B01526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6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E5DBBE-6F3D-4AB4-9DEB-808AA6B8627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29" name="PlaceHolder 1"/>
          <p:cNvSpPr>
            <a:spLocks noGrp="1"/>
          </p:cNvSpPr>
          <p:nvPr>
            <p:ph type="sldImg"/>
          </p:nvPr>
        </p:nvSpPr>
        <p:spPr>
          <a:xfrm>
            <a:off x="985680" y="741240"/>
            <a:ext cx="4886640" cy="3665520"/>
          </a:xfrm>
          <a:prstGeom prst="rect">
            <a:avLst/>
          </a:prstGeom>
          <a:ln w="0">
            <a:noFill/>
          </a:ln>
        </p:spPr>
      </p:sp>
      <p:sp>
        <p:nvSpPr>
          <p:cNvPr id="66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0F590C-D074-49B4-9800-4A40DBBDC2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7538137-9A60-41F6-AFA6-29E6E6370C9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397B4BCF-1C27-462E-97DF-37920F91212A}"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F5366848-0780-4EF3-AF29-775061E3C75E}"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AAA356AB-0BA2-4B3B-BCBA-475EA95D0508}"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EBC4795C-8506-4457-9F85-42B5CD1A23D2}"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3321C5EF-12F9-4B2C-833B-EA64D7B9B870}"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32223B61-A069-4D9D-A762-A6F9BBA7E720}"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6C33FE77-E35A-4C18-B2A4-9B44F8A2629E}"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30E2FCAE-9550-489A-A434-7AFF70AFC887}"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EBB53D3E-51B0-484A-9325-3DC22D7D1D03}"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CE36D1A1-2239-4E2A-B4C1-98FBC5CF3A5D}"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DC59DB44-D370-4E21-948C-F1DA9FFAC72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17BFD408-4A70-4928-8A45-1AD6D65A6F71}"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2BC489F5-E946-43CE-8DF8-DE9298A42B16}"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9AC116CD-0411-45A9-8DDD-B60D8408DA2F}"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F16BDCF4-3D23-4724-8A68-3D578FC37357}"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4659301D-AC7C-473D-AC25-7D1C7A7D33F3}"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B450938D-D0F2-4408-BCFD-61CBAD9829AF}"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66C37FAA-458A-46D3-BCC5-E2DB4002EC3D}"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AB6DFB54-5E3A-4FE1-BB90-04FCF2103ED5}"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BBC9E828-6F65-42FA-A13A-C1A75B8BC416}"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A14AC943-27E8-44A4-B888-703F8ACA1FDD}"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9A5770EB-1EDF-400C-BAFE-E59EF5F1E54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DB7D83EC-C05F-4B5C-9AE6-427FC5D05043}"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7F19733F-AD75-46A0-B969-BE0B1900A9B4}"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BB0FD01D-B020-4BE0-9A8A-3061395A5FC5}"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4971A8E6-8DE1-471A-B7C8-09EB4FCA5B04}"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821DE4FD-EBD9-46AD-A39A-2A4F4D7A83B1}"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14FCD177-02F5-44EA-8723-6A641BB3AFEF}"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81103FCD-0792-4E2F-BCDB-E6799CCBD971}"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C218741D-DA55-4CCC-BDAD-266286D4108C}"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049CB90D-EF6E-4919-9068-C6B0E54E8B14}"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4AD1B6F4-9C75-4F50-9E7E-F15F161330FB}"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0E27B276-53B7-4600-B653-3D6C9FE21BF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410F6F2-283B-4A85-81AC-BE9D24346375}"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DC5EC193-794D-4CDF-BBFE-06CF8A15FBA7}"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BF03863D-EBD5-4BF7-9555-D676DB78744E}"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2E4F2598-DF89-4597-84D7-E4B92898883D}"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774708A1-727A-4E2A-869E-4AEB0B804BF0}"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59DC07D3-2E57-40A0-925B-A31B38830E0A}"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6EC85198-2182-4F70-80E1-F0C7FF5788E2}"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1BE7D65C-101C-4481-809E-3BB848021751}"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41FAAB5F-5EB4-4399-8DCB-6CB56D69C4AD}"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A5B6B846-3AD3-47C0-97DD-E5CE463671A4}"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FC841182-8F3C-40A3-996A-17A75961521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3C1C776-19A2-41CC-9445-CB86CF766434}"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7F949C36-4DC6-4748-8971-6A4ACFD451A0}"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59410252-9DF4-47EC-8A4C-97C8384D75E7}"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6B687E48-20E3-4AF0-90FB-3E3DD7EC1585}"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8EC46D9A-86AD-48E6-BADC-4CC741155773}"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3F487B19-9501-476C-A1A3-0389463F2CFC}"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1FCAD31C-7077-49AA-AFA9-9C91D81457BB}"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8F6189FB-318B-47D7-9D43-D636BDFA9EA0}"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45F3EA31-0FF8-4393-8027-C07D64A44EFE}"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4E74A4A3-FEE7-4D0F-B236-7290852C5D74}"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B89BCC1D-8E88-4441-A176-A48B8249EC4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5CE7172-3C10-41C8-BC0C-6269492F03C9}"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A339D150-4AC5-4178-B0F3-E59C4B59E759}"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29FCBC2B-EB15-4B8F-A17D-A237A8C3FA18}"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74ABD970-6B7E-4AD4-BFCB-FB6CAF4DB5E1}"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15E0A24E-597B-4403-936F-A903A9513C4A}"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DCA903ED-6814-49B5-B1FA-A62B1B90A96E}"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D173ADDD-FC4A-48ED-828A-68B46731FAD9}"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BBE4E582-A948-4751-8278-B41505D82D8D}"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68A3BBF9-AD2A-45A2-A407-2CB76EAFC7C4}"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45FF29CB-B155-41CC-A666-2573AD2C05D5}"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D6CCB446-6EE8-46BD-9393-42F75452F81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6A086462-E708-483A-8E7A-20195E887779}"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A05DCAFC-456F-471F-851E-CBFED2C2AC3F}"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A5FAFD01-BD6F-4E34-A3C6-42E4BFFEF939}"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3EE69D9B-8607-44DD-A42F-0C1277DB4A5B}"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DE5B5C37-A1A4-432A-987D-B21996CF66C6}"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FDE976F7-F7CA-4E0C-9E9D-D7CE2025183E}"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EF9022A3-C0E1-4F62-9C36-6CE6E080A691}"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C60C5AB0-0B55-4879-92F5-D1B6188A49F2}"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B361975A-420B-4B41-8A02-C8D4B96462D1}"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7FABDEF7-749D-4E2F-A005-52B8C7036AA1}"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764ADDBB-DA21-4268-8F78-0E24E20FD14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3E75D5F9-E903-421A-BF9E-F5C8ECAB5091}"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AAF3584D-D69D-4D73-A2AB-803872AC169B}"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8E4559AF-0EBB-41C5-A1E5-099D7597049D}"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99DE1482-74DD-487B-AB3C-9D804BBD25ED}"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A8E5F4E6-F28A-4AC1-889A-74AD836FF3B6}"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CDE8B246-8473-49EB-A6E7-F5BD998D35C0}"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D85CA89A-BBD4-443A-A03E-3703C1BEA383}"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DCAB9D11-372A-4704-8F28-A2B2171F2116}"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2F227E33-2A0E-4053-846F-E40D5E571AD1}"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7A1EBEFE-1238-4F36-9587-6D5B6C0CB91C}"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441366EC-E847-441E-8F76-64E445223B5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9917D32C-5964-4290-BCF4-07C2087CBE41}"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D4B289B2-9EC9-4361-8483-0A9B98C64F64}"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3E60E2DE-D92E-4EDF-AA19-8D59CE07CFCF}"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99315CCD-E20F-4B7D-840F-A47CF6AB8B6F}"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91CD29B9-F6A7-4EE7-9FFE-A7D01DF73304}"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9F11D5C0-6007-4DAB-AB38-AD463D7A66A6}"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8337A21C-DF6A-4754-B961-2AE4A4CD3085}"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994C1ED0-B75E-40A7-B3BB-A0C4BDCCA3E3}"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ADE141EE-D3E8-4191-BD1A-7B89C8584AF4}"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2FD7A4B8-2F1B-47E6-A794-8D952FA462C1}"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E1E5B550-A6B4-49F2-ADD5-B0BAD5AE69E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674A85D-C845-4EFA-910C-8B9043967876}"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F063CB77-1226-4505-AA89-486C3866C121}"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708943D8-C83F-4E6D-B028-FA9C0E490B8C}"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25941842-BF4D-465C-B5A0-C261572C9C26}"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4ED10B5F-AA0D-4F25-9DC6-39AB6FC3F90F}"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46C6F967-B834-4B1D-8408-127F89B15F8A}"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25A5C72D-B80F-40F3-BB1F-6BFA7085F822}"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A337E84D-F052-4605-B445-DAA1088B99EF}"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E545BA8B-6BBE-4245-AEE9-AF57AD721348}"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6FB4CBC2-0A14-4C07-9354-348474FBDDC2}"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45DCFD23-7D2F-4D89-9AD0-1B9A7E9645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3A9C4255-4A8A-4E8D-9B79-1712A7F8CCA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722C5A14-CAE4-4D68-A23E-03867282D830}"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01517B88-6959-4B58-9256-126F1485F314}"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6FD0BFCD-DECC-4116-AD0D-7B6FD3BB04D0}"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A6CA447E-4EB4-4FDC-A27C-913A781D1B27}"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391D231D-8B2C-4D82-815B-62C1DA192A44}"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985D7627-97CF-4FD5-8FB3-90D515A042A0}"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62034823-E0DD-427D-9027-D08AD6F12C99}"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C818BD14-4DDB-4C98-8249-A5DF1942ADF2}"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174E785C-56EC-4411-AF65-264BD444160A}"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8C3130E6-5FAF-4A41-86C7-15EE53FA652A}"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28D5A83C-43E0-408E-A74A-64B07A33C58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780AAA0A-4B30-400E-9129-E2B683B583B6}"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A53F0293-F95D-4B6C-A60A-3D6ECB3B99B5}"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327F5E76-A125-443A-A4FE-C981EA953BCA}"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D56A67A1-17ED-47D5-A55B-147E676A6F59}"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F1D14A06-01C5-44B0-AA6C-79C64355C1C0}"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2BA69C81-EB40-470C-B29A-E24F4525FEE4}"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5E749132-4575-4754-8689-EF2D23A5B5AC}"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148271BE-39DB-481D-95D6-32193A3BFB30}"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EC07F893-8883-4B3B-9AE9-72BC99CD9B78}"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B0A20FCC-EE8B-4F10-A5F6-199243C60F73}"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388FA8B4-7F0F-4A36-B5F9-64291DFEE86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37B2B10D-2FEE-450B-88CE-2CFA335ECFB8}"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DCE183E6-977B-417B-9D08-6E9631ACB92C}"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D5896F2B-1457-4A0A-A045-B96BA5064DEE}"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C6F4765D-4082-4E47-BC50-A8DC6D4C669E}"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B6647BEC-6C2A-4413-A724-7B6B44ECEF00}"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70719518-E570-4CEA-8D62-775BB3FEB699}"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FB2BE2FA-4FDD-41B5-B0C0-E849C11AAFA2}"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16CF92B5-C847-4B31-9C82-90BD9B03BF50}"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4C56D015-82E0-4DC6-B328-DA4FF811D500}"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F3AAA40B-0DE8-46F6-BC15-2EA57C06AE42}"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31FEDC6B-0D18-43DD-BEFE-37B94CE17DE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2D06A717-9FAA-4FE2-A9B2-D73DDB7A6B55}"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11A40DD0-D519-497F-A4DB-48D8E9DA93D9}"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BC4CAF8C-C431-4924-BAB7-8A41F29B14F4}"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42C44692-D755-4737-869D-FE1EB09CA9E1}"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EA8BD767-80E9-418E-98E9-D2933C0188F5}"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3A7369F8-8F35-42C5-A3C9-727250BDD692}"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38AFC1D7-403A-4F4E-83A2-E4BAA2ABEDAE}"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9BFBC8B1-FB78-4EC0-ACE3-CC5EE6E0BA12}"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B9987D7F-1AEA-40EF-8DB8-EB5591F038AB}"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C7D1E6B9-B03C-484F-8E85-95B74CE62AE0}"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770847DC-8687-498E-9B08-571FED2041B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1541867D-CAD1-46A6-8AF9-DE3DB2203A9F}"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B185CCAC-6409-4CE7-9AC5-A6C9B791830D}"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0AD4B761-483A-4B7F-8423-C1A2BBA005F3}"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88CBBCA5-4C53-4D87-8AA0-ACF28BBBB7A9}"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F9A002A9-A538-4A38-BD2D-CBD8CA567B48}"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305C2C12-27B3-4EEB-8316-74C8986DEC8D}"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A6CF6D1A-67DA-412A-8604-664B1C9E470A}"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614F8F09-E3CD-45E3-B27E-1DDD76F65DB3}"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5054BA73-179E-48B1-8FA1-16297087D493}"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CF6ED30A-A642-4C94-9F91-BD4384A82BAB}"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505E4D8E-F5FF-4F67-B64C-A1462782172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201F0C2-FA25-4540-AD2B-F76C4B206389}"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902392E4-92B1-4318-9B5F-7054A108D7FA}"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1B4A6514-3942-42E2-A609-AB3459BB8110}"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43B1C545-8E10-4659-80AA-6B2B54814D3C}"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BDAC8283-07FE-40D3-9EC5-1B2C49FB5C9C}"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DF49BBE2-199B-4AD3-B73A-C26D4C42EBB9}"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C1A39119-D092-4880-97AF-3F500D49CDEF}"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91483CC4-41B8-4EA6-A902-5388D4E358C7}"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0ADD8175-1192-4E4C-B102-EE87FACE30BC}"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9D3D90D1-EBD6-461E-976E-A89C27CFA690}"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1B53EB41-AE54-44CD-AE94-D8B30A2E065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F2BE212-C132-4BE7-AB91-2716DE044C5A}"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64B2FD56-3192-403B-806E-53C202FE2C7F}"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ED425C27-DF3C-4E58-8720-20566561DE63}"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4A4A2BDD-330C-40A5-824F-797E90A08046}"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34F582E7-30BF-4131-B1CE-3523345242A0}"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AE0B2E7A-16BA-45E7-B226-CFEB8D0B531F}"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C5705644-E725-4E12-B645-3E320855B44B}"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4F5F6536-BED5-4587-8819-EBFF97F9A2AA}"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82C41861-11FF-4FD8-A192-2C3306806DC5}"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5D2099D6-3CE9-4E11-946E-E5188BB09AB4}"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576F09FE-22B6-4F01-A6A6-7D49B436560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153D0CA-2747-4C2D-84FC-3CD7E30CEC10}"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6A459852-3AE6-403E-A022-EE1205398639}"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5B7B65A6-6FCF-46F0-9BF9-49E283E7017B}"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F9BD8DFF-6DE6-49CD-8B6C-B6EC3761C13E}"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D169031C-8E44-420C-8AAC-82CD43ADE84E}"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DCC260AE-E58A-4D19-955C-2E31AC22172B}"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BD91E9E0-574A-4CE6-9E58-668E7DB5C8C1}"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93EF7576-B9E0-48D9-8C19-FBF97340CBD0}"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65F7F415-C382-48E4-A0A8-8D91720ACE97}"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13FD3592-673C-4700-9045-C78E34788DFE}"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E7C477E9-942A-49D9-B406-E2840EEC600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23382BA8-3BB5-45DB-A5C4-DB53CAAB2D5B}"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377EB6C8-FAB6-4F68-82CF-D59BA7EC9F5D}"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A511D425-746D-42CD-B1C1-1D2277AC5207}"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9B4C9C9C-4D53-40EA-A78D-8696034817CC}"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DCA8D755-5D0A-4D62-91AE-72C729B136CA}"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C379B96A-E393-41BA-98FF-188DC89EAE96}"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A07F1672-117B-447F-90BA-B7B80F19ECC1}"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EA9638F8-2E38-47FA-96BA-046534F8CCF6}"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BF626E4C-6882-4596-8A09-D97BB577C449}"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6D62B977-A71C-4514-A169-229A6A3AAC13}"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A8C2A60F-8DEE-4CB0-AFD0-4FF6D6D3C18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70951D07-9FBD-4596-A846-50A2429FBCA8}"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FD1AA311-2B21-41DD-B859-84D0C83723AB}"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9712DAC1-571E-41BB-BE4A-6650CDCF0207}"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354AD9BB-E851-4C0E-BBD0-6A9BAB3A282D}"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36E46736-587B-4FE2-8BFD-CA35E56B78BE}"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E6E61E50-C467-4F45-84A9-32C0138E6459}"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FE10036A-2869-4ECA-9BB4-241A8814BFFE}"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0D799D11-2138-4BEF-B58B-CEF5FD5F830C}"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15608040-352E-4E24-B083-C44224D27883}"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70FA5DB5-DCCE-4DD0-8891-69CAEC545D86}"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78D1EC14-494F-4C3E-8397-6C15654B6D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F53ED218-EE9B-4276-8221-8620625B5FC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4EACE31D-13D8-4FEF-8E84-A1F715387B8D}"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714E7E4D-EADC-4F35-9371-37D876149883}"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F77CA084-3368-473E-8862-6ECDC09224E3}"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CFE2723E-0160-4304-9C73-228448EFD007}"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8B2517E7-520A-44EE-963A-98AF610BC191}"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B428B991-99DC-4E18-B784-5190C75600BB}"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80DC4606-55FC-46E4-9362-5AD79CDD08FC}"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3266C009-D512-4BA2-A881-A5C43F2D9BE8}"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6529EE6C-823E-43D5-9A42-2AB05571EA14}"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9646EF2C-C633-46A9-9162-EFCA100FF54E}"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4634AFE5-7A39-4229-9BDB-78C40876BE2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0F717BD-5CC8-4CA8-A5AE-693B15BBE055}"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9E4ABC9B-EA39-4A6F-B13B-D45DFC3A55E5}"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A8E3672C-CF12-4579-96B6-02D7CA2A4E46}"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4D2A41BB-4ECF-456A-83D0-846C9FE5736E}"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66D684CC-9E24-43C3-B608-A5147D45CC27}"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2F69CA3C-9BCD-483F-980C-701C0C4DA8C2}"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FC6D0C92-8414-4347-B2DD-943B69D5E6DC}"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1C0E5EF3-A144-49A2-A808-0A72A536F96D}"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ADBB1A38-8FC0-457C-A798-FF64797D6141}"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7B59472C-657B-40B8-B0E7-DEBBD7CC2360}"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29516408-784B-4915-B422-D3C43EED5BC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8CA7B45-CA22-4FD7-B6F8-166CD0F4534B}"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22307EB1-42B3-400A-B43B-54E8833AD1BE}"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FA6056EF-5DD9-4E38-92C5-E8475E9D95C8}"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B8E060DA-1BDC-46C2-873B-892A4FC8154A}"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236DDDF3-3AA4-4147-BEAE-0FCC1281195E}"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4B072B76-B25C-4B71-B640-80FA778603E9}"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1A5C7966-A8DB-49FE-890A-D46D85F6230A}"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47A4B846-03C7-4816-AF49-37D4328EB831}"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121FD04D-6AD4-4B7E-B4FA-795788F02E44}"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6BDEEA83-5CF3-4593-8D0C-6115ADC43F0E}"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A62AA483-DC64-45D2-8353-3C6B6E1C859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B6F2EED-B3F4-406D-ABA6-A5CC10A06A90}"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7F9CA604-D664-4500-B05F-03EA802E8881}"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6BC40830-3A61-4A75-8139-05EE3A53DE97}"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7185CFD7-FC34-44C8-AAAA-BE8284A16EED}"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BC972BB7-DF5E-44F8-A08F-C5D33A2231B4}"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439E5129-EC31-4887-B00F-0D2BEED4D908}"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866ECA64-3FAA-4F68-89CA-C1392504933C}"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B5D9FB73-DBFE-429F-B7BD-9AC28FFD2D8F}"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21659BA0-C0CD-4FEC-87C6-0B84EDDE4FE8}"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2930449C-4B0E-4766-A699-B1013071C9B5}"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66919AA0-145A-4A5C-A1C2-1747C4A2F83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75EE9719-60BE-4B3D-8C8A-BB45F9910C63}"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1FCA8514-67F9-4C77-8B55-08F34A467253}"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346F0BE5-BC5E-43BF-9601-5637E784B058}"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ED981EF1-FC37-4D8A-9530-19B90BA4BDDC}"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A2296B5A-170B-4243-B9EB-A62E56CF13E5}"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E3DFD12E-8F47-4BFA-9B39-0CDBC3BE6BE3}"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70207E0F-FF23-406F-ADBF-653157DC0480}"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DD9CF09B-61EA-455D-9C73-C74E4D3652F0}"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24EF2392-DB1C-406E-808B-9ED4296509EA}"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55037D01-D984-4775-B80C-3347FE66FA64}"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D14C2BBD-55B2-47F8-A3F9-595ADA9B2C6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B6756664-C4BD-4F56-AED3-C0DEB3EA2A1B}"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254791E8-E2F0-4CBF-B202-BA068E53C0B2}"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83E539F7-9A10-4C38-BA91-20CB19079278}"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751449F5-8BDA-47A6-8106-608A261C929B}"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8338C9AA-BC25-4EE5-8D36-17710D77B74B}"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B283C9E1-3F99-4462-81A6-9F6A18767FC1}"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F47B119F-80D6-4539-8D28-E14579461B1B}"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F83786ED-1EF9-4432-9DD5-19D184024C26}"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3A37BFAC-356B-4098-9812-C43B7A19DA61}"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1E61C6DE-9285-4062-A276-66520B7D15AF}"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FCE59782-5BCE-442E-8192-5D1FE699B09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8C376290-D3FA-430E-9345-58151D88BBE5}"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DF1E5727-ED4A-476B-A43D-FB2CB0EDEDBE}"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04E949BA-7136-45D5-B763-1C1D6C7A2A46}"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506CA924-59DC-4D2F-87CD-0D19BF1A0AFA}"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4F483F66-ECED-4A53-8844-448C70DE319F}"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715D7F77-6F31-4A82-B6F3-05765BF29184}"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DCC84A92-2A90-4993-8BA0-D5A34EF4CFC7}"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87AD5DCD-337D-40C9-9FF8-2259A29E0619}"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835C1AB7-5A63-46BD-91CC-34DDB772D480}"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D0C96B63-DBFE-4B0B-9F63-D97DFC72C636}"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AC12E0C4-75CF-4B14-B4FF-99E87EF75E1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63EC20B-511B-4236-A0D3-FAB4127589D7}"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04DB31A5-2AEF-40F7-906B-FBADC2BEB879}"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C7451E62-C28A-4339-AFAA-3AA7DE20DF81}"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C4FE648D-B55F-41E1-8AEB-ACD2C551926C}"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A9376763-A319-45CF-8ECD-01EB19701F35}"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F5120F9D-2823-4C51-9C61-29126DDBDF3F}"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440F6A1E-6DE4-4E8E-9140-4CBA3AB8E15D}"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4FB02F3E-C56E-4BB6-8BF4-67BCAA827996}"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9C7C3FE5-3D82-4C63-A6CC-80F273652CDE}"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3367ACFE-17FD-449A-82F7-A8B2A69E7C5E}"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B5820C02-DC59-4270-BD7D-94E14669E39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72967F9-5346-4A93-9E88-F7B0AF5CB372}"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0097FBF8-97EB-4357-8F4B-571FCF085D3A}"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C99B7F5E-5AB3-4855-B20F-1EE9C7B23FD8}"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EC28BDB6-B3E6-49F4-990E-1C08D371CC7C}"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0429AADA-E6BE-4780-8EB9-454B25F489AE}"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A824D2B4-9141-441C-A87A-36DCA68A0C2B}"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21515976-854A-46EC-BAE7-DFB5C6581566}"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E9C07975-46AB-484D-AD9D-44F14717686F}"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D1EEB5A0-3DDC-4803-B194-93A926299B87}"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3C61FBE6-EA4C-49AD-9B4A-70F4D4BF64FF}"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384D9DBF-B031-45CC-BA6C-A3BBE492D82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3E115FC-2FC2-4909-9921-84629C70CE62}"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33E79BF6-E8AB-46C6-86BF-2927AB705234}"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743B2DB9-08FC-49E2-92E6-11F6E143385F}"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70485D31-8C02-479C-AE8E-678E3BE0B008}"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2DC1807E-D011-4BC3-92E3-E616AEDAEB49}"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585369AA-72D7-459E-811B-56A97712E3E1}"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B673162D-05D3-472B-8603-43FFE128F5EE}"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A0544D2B-9EA0-4293-BE4D-49B67CA0DE23}"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37D98E61-063B-4948-98F0-8E6A4D25B6A2}"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A0B0F14C-3005-4F5E-985D-5986B39991D9}"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C9FD2C79-588D-4E34-8877-91ED161A9E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280EDE-9703-496C-A07B-D2EBAEBEF8A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FB27E155-6291-496D-8376-9864023B07E4}"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1C41C825-82CF-408A-91CA-AA4068F2A6F7}"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B13D2EA6-9857-4A60-A9D1-AC9D25D212B7}"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D3EF0B93-7ECA-4BAC-91B1-40C93677A2BD}"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B9362123-06E4-4E9E-B69F-5196F9AD52A9}"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9F45D2B5-7475-4BC0-A873-F4AAF3189629}"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0202779D-8113-4E19-8B00-EFA1E19153EF}"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4D9BFF66-C9D8-4D6A-97E4-7AC66D27CCAB}"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7CCED33E-A8FE-4B67-8D96-D720C054FE64}"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09A776D6-E18A-45EE-8DFE-188DE0125066}"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C879884E-C518-4481-9500-0EA5C40F940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91388CE5-E012-4F89-9D42-2A80DBA5CBCE}"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355CC352-08D3-4F66-A2DA-A87D8C2F1075}"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27E8C0DB-D5CC-4462-A7BD-9051F294C58E}"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9EA9771A-B644-4604-8897-FAF2E823C467}"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2BB45F16-FE37-46B8-9F32-3172BB085683}"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416F7F7C-9622-4193-A067-4B41103F67FF}"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AD67D1BB-1BE1-4F86-AD84-4FCB6CAC65AB}"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E9B1BC2D-1567-4509-B55E-6BD6422837B9}"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E7FC10AF-6C28-4F37-9373-2F78F6EAF39F}"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86B264CD-9179-43D3-86E7-CC5FC2287F9B}"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58523A6E-3C9D-490E-B837-1ED1352F4EC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EF65A9E0-5068-49BA-841E-398B04535DE2}"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089A537F-FAAB-436C-A8D0-622DCD95A957}"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2AD1E6FF-284F-4C1F-88CD-93086D00EA05}"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4770227E-1BCF-4ED6-B311-9250999C8E4A}"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8135B7BB-AF25-4E16-98D9-0C25A825C4C9}"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5CC4AB36-3809-4D88-9512-59423D8A9A23}"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0A9BDCEE-D347-443A-892B-58FFC57A20B0}"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AB00B6D1-C846-4E3F-9ECC-29495438119B}"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79A301C5-2F41-4934-95D6-E2B42903C9FC}"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71A1896C-7746-4C93-9DF8-A5CD8C3D48B6}"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0EBF61A5-96C4-4AC7-B566-86E871A2A2E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2D30B5A-ACD6-4FCB-B6D1-2AC0C5ABCDE3}"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48835181-69F2-43DA-9D19-845D9E25EC14}"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5AEE324A-A71C-4462-B366-FCE0995E6B05}"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A9B7B3DA-A3CF-4724-BF9D-DA80A979A4B0}"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CE7696EC-F132-4D80-9BCC-E5CA2E9B554E}"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46E6470C-045E-4548-A8B2-D4F40C3E7AB2}"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D7B00801-FA2D-4B37-999D-BE9476E05504}"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113F6579-F6C5-4002-B740-3821AEBE16C1}"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BAE89B2C-9808-4B04-BB1F-AEBB09DF91CC}"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7C60D0F1-C219-48E8-BA47-A740C8D50CE4}"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F224163B-370A-41C5-B749-D0E41986C59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9160EFEB-5B8E-4AF9-9764-08C08ADB7485}"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009F8B85-4088-44D0-B574-DEFB40C550D4}"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BE999E6F-38FB-4995-B9B2-E1EE6FAD121B}"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239B5CB1-A0D2-482A-B3E6-6ED761691517}"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4F15E929-A9DC-4B60-AF17-8273BD8865E0}"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66F49DDB-5060-4D1D-9875-548C6F3F8880}"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7F5D5810-AB10-49D7-B76B-19EA773FEA36}"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FDAC5B42-419E-4746-A29D-AC2C37956186}"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420CA8CF-C042-4552-90A3-F357CDF1C67B}"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8D85AA89-FF86-4290-B58E-E882AE76F2BD}"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695C24F4-EB3E-439E-8BC1-485CC9ACFB4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90ED2E40-828B-44D0-AFD7-C7CF5BC91192}"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A5979DD2-A900-4CAF-91A1-2FAB47C5F474}"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F5491A4C-0C64-4F78-9C4B-D72648BD9684}"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E57A59DC-3ABF-4004-9B28-5521A12B76AE}"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F11C3DE3-FCE0-4950-BF90-79332EB14193}"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A75EC207-0BF5-456D-8C99-E980B633A804}"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7AF75818-0458-436C-B491-90E345069A5D}"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798D2952-E5C4-4B2B-9D87-38BCFD37CA40}"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2E3E8B4A-063B-4BF7-8009-9B0A2B45DBB1}"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921F11F2-2CF6-4845-895F-B258E106C8A2}"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428539E0-37B8-437F-93FC-ADD561DDF59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AEFEAB5C-CAC8-4EB8-82FE-58943D1207B4}"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9A10AAA9-8F20-49A4-A6C7-2FE08C49E984}"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5252A454-4C30-4BF0-82B8-796B04D190AA}"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F5B64CFC-CC88-4DAA-B39F-A54A296A9233}"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F5611C91-206A-44B0-BA84-8058AF3AD3D3}"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EAC2F4C1-C1AD-4F5C-A1C4-8ACF0B37D48E}"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490F016B-2E20-4B99-B676-2D83931E2053}"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ACB884EF-B780-4B6A-9AC0-96F2943FF289}"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D4EB9B3A-A434-4DA7-AA12-697F92CD47A7}"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56E45F80-3437-4B6C-B88F-8532D84721EB}"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BAA43753-9690-4771-A540-D4647F62A88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33ABC532-CE68-4A7D-BA5F-FAC1259EF74B}"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1CE8D586-DF0F-4119-8A9F-28FB4C36B30D}"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8C488B0F-8BEF-492F-AB4C-DF2BF7876B7D}"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00C67C9B-7D2C-4BB5-9318-C6C19F2EC2C1}"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B398DE87-E49C-4FF3-AC08-12442D7E89CA}"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6812D423-0160-4882-AE5D-08889F973A42}"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A9750301-6CFD-46DE-8C22-BF27D5A92E29}"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C2B7E65E-7F5F-4CD7-91C6-366C26448FE3}"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08E95A50-31DA-4972-8571-54BC8D510C20}"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E6AAFFAC-3E54-4131-8FE4-C7CB8C77607C}"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3AACEE0C-EA18-482F-878D-FBED0CB7131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E9D5F6D5-4061-4CE2-8704-46FD3031C584}"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22F87275-4C48-4C6E-BEB0-F48ABE5EAE15}"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CFF6CE49-7F78-498E-B8D9-C0F0ACA987A8}"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2F5B83FA-4AD8-4C9A-8B82-23655425FA27}"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A707F592-15F2-48B0-A5E7-99E02D5DF194}"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B2F00EED-A834-406A-A81E-574DF0523422}"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2EF6E957-A3E4-4C3F-AA71-DEA5CF46ED51}"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87D521F2-65A0-45F9-A6F2-F9F0D41FC8F7}"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2F9A139F-7586-4447-973C-8A34DEDCC455}"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FAF36FCC-4BAD-4650-AE90-85A3423D5C28}"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25D79FED-34C9-40ED-991C-198E6618AED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F6DF289-4D72-4673-89B3-3A0495B73A1F}"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0B20F71E-410D-4145-91F9-CCBCCA2DE932}"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96330733-4C59-4EE9-B4C3-B6E872C45B3B}"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0E826A4E-E4CD-4FBE-AE29-FB6439F6C61E}"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60023439-3D35-4FF6-B4AF-FCD80317F04D}"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013F4458-7B60-4635-87DE-B412CDAF04EE}"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B7D3EABE-82B1-43DF-B537-0F0364E08D6E}"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947B0F09-DED0-4397-9676-FB333859D27A}"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846258F1-C342-445E-BE01-0227A060CB75}"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60BA5AB8-FF98-4060-B6C3-761B6A401397}"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17942AB7-B2CF-4F86-BA3F-62CD0E63C8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6B7A243-D4CE-4044-8B6C-40A89A06291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2209E33-7001-429C-A24E-0D02734C0EE5}"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00A09B30-215A-49D3-BAF3-2B8B1435C02D}"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A141EDEE-BDFF-4D80-BE3B-EEC1AD7B25D2}"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FD0CAA8B-CDB2-482A-B2D5-ABA4B538F220}"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1131FD3F-A670-4189-B76E-C90E5EF93784}"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FAD9C49E-84E1-4B62-8CDC-7076F0611557}"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4E0B8330-15B9-406D-ADEF-181386D14E41}"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D46F457D-268A-4294-8D80-6BC129303E28}"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5E402488-D96A-4888-B3E3-2AC0886A4EFA}"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64560627-85FC-4F02-B696-3E12154C68F0}"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699C35BF-54B1-4420-8EBC-80E666481E4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98F1142-A559-48F4-9483-F67DD956FB8D}"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112A759E-5413-4792-9315-46455FC0FD49}"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9C0A0EAB-204E-40ED-B5FC-CEEFC4921200}"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5B068F50-F731-4892-A51D-3A240938B658}"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B01940DA-38DA-4A30-B2F8-112D71CD84CF}"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F9885E3D-35D9-4D14-903C-FADAA80A9639}"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9EB44CBF-637D-4C16-8F9F-4E86D0C0E586}"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528BB0FA-6464-4FB4-A839-85FC0BF40C1E}"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209EE742-76C7-4C30-B075-1E159336B44A}"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EC95C3B9-8E5E-4F03-9463-7291D8C850B7}"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9FB3ADC4-9703-4B18-B041-6F768802E6C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AD590B55-2043-4AF0-9042-3749C264A696}"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E1D8E516-D66B-4863-95BE-34764D76EFF9}"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071674EA-7438-4A63-ACE7-AB8C692F25FF}"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0E95EFF7-5932-43A2-AFB8-04CFC0097A46}"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FA8C2B25-E431-45CB-8056-D474DFA9627E}"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67D72327-5E7E-4D8F-9797-6C5AD62DFA20}"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283DACDE-2D8C-41FF-8CD7-9BE512102488}"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D40A1196-D9EB-417C-AADB-2C79D6191041}"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53015D4D-08A8-4512-AB24-EBFDE92B3076}"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E1E53272-F815-4216-9A47-59E89097F594}"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C3F87D1E-F026-4D17-BE6E-B66C2CD72D1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9B276BEB-0C20-4488-B7DB-ACFD912F0C8F}"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D47496EE-E18F-429C-92FD-20145C8E6CAA}"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97F4DB5F-DBE7-43E0-8E90-E2A0FB9D8D36}"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B00C0DA9-8BC3-47DA-A089-C35EA6858933}"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DDD3038E-1DD4-40C9-A1A9-80ECAFF5FA20}"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97AB21C8-AE0C-4B2B-916C-802EBF259E33}"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FD7992B1-3751-4966-B87C-2C01171BF183}"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0CF208E1-2532-458D-A2FC-2FC8B9CC6BBF}"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6163D23B-52AB-4BE7-93D0-BE9C62CBEF9E}"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32EE8096-8C25-4DF0-A218-0234AA2CB274}"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6B927C6E-E048-487F-8622-7CE61408A51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444AEC2C-0342-4A5B-8983-F1AC2742621E}"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C9BE6E55-3749-4A8E-B16F-104FF56FA994}"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2379DB61-A602-43BD-AE0C-35871303216D}"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C1686159-2945-4DB4-ABA7-0D5992E1A9E5}"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C907D332-62B3-43DA-82DB-42F8D5951058}"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29A6B2CE-86AF-4E80-8784-4B0DAE0B5D3F}"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FAA9D156-8DE7-466C-A537-5B87BBDB9F64}"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47E504A9-C43B-467E-9984-AD92FA330947}"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AD228CD1-2E06-4F03-8586-42ADB111FA43}"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BDDFBBBA-237D-4FE9-9137-2B0688767DAD}"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E87D68E3-31BC-44F6-9725-E506441C5D2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013F0F0-4619-4E6B-805B-33114E0208C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EE37F22D-97D6-4F65-8497-D5380C39A68F}"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8DC06822-7E5A-4044-B220-7323204AB37B}"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91296082-C375-4060-BF9D-E163D08C46AC}"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DD6DE4BC-9A72-44D7-AA0B-9FD877C0060A}"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30316851-3529-4984-8355-BF8CD43FFBD2}"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8D136B24-75BA-48E9-AA32-9DBD73795D9F}"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C8AFFBBD-425A-4083-9822-344288E63FDA}"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B29A2C87-FE4D-46D1-B59A-ABA12E1F70B2}"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CCB63368-1999-4EEC-BF4A-E3958D4104A0}"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97B70F62-1053-4DB1-8850-59D556B1265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E2F3A77-283A-49EF-8F30-36122EB148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45F45691-A70C-467D-B010-21CB12BCD5F8}"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ABD30D53-A661-4402-A288-AC60C0801D50}"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E98C619B-0528-4CC2-B054-1E7AA8BCF32B}"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10917348-5494-4484-81B4-406D16EA96D9}"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031FEEB5-BE17-4E7B-B997-5C6A0C78CDE3}"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AEEC5B3A-BE7D-445D-8448-C2870BB8BC65}"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A415C4EC-1310-4883-AD96-13DFDC1628C8}"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82A5873D-8123-456B-858B-1509D7B50585}"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F5B959A1-3BB1-4065-87CB-DA18863906E8}"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D425F5C4-62B3-4F7F-B4E1-A51AFBF41F1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A50E70A9-15C7-4A02-A899-03BCE2B81B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B2D0A064-3D89-4075-B6C3-65D6E2D5D6D2}"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CAB0CF28-F20A-42FA-9C9F-B911C30E16E3}"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CC478507-D44A-46C5-8196-667E9C5BAC38}"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EAD4037B-0061-4CC6-BA65-B6799AAED3A6}"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18F7A46A-7669-4F22-917E-9B94F60C4F25}"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B1C14249-58C8-4ED1-8EC6-BC1E72649E4C}"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EC90D980-7436-42A6-AF1C-6D06826D7A8C}"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BF93838F-F2DF-4B16-8CB4-BCE5C9199E92}"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4D4F2B4A-C724-447E-A282-E5E4802F228B}"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3183E018-F9AC-4687-854C-9685E9652A7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86596EA-63AA-4B3D-9EAC-A9736E0EB0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14B92317-584F-4F33-9EB1-CE47BCEAF719}"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9F399B92-74FF-41D7-AFD1-B4B829831BF4}"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304A8123-9D8A-4C72-A60F-09CA210A6A13}"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E3DFBC94-9C26-4FC3-B8AA-BE4E785C82F4}"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FCA80CD7-A55F-46A1-99BB-83A211654C54}"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DA2DF923-531E-4825-B603-25F4569999A8}"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3942C1C7-027B-41E8-A2A2-F4F0AF4888A0}"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4BDA95B0-FCAE-4EB0-BC09-C8CAE550FD45}"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63147344-5793-441F-B21F-314345B324AC}"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C58201D5-E10F-46AC-ADA2-0589703E688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FF610F19-D2AE-4F86-9CD6-AD7F5E9BEA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D69E2C4C-75FE-45CB-BC9D-A3B083B6297D}"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8953A284-C27F-4B7C-87FF-8A38C2669BB9}"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E42DBDF6-F7B4-4EB4-A14F-623794925E68}"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32C0439E-D5EF-405E-A209-7FFA8449C623}"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F5C47953-DDAA-45FA-BF3B-9CDD5CB0C164}"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DF5A64B4-5F4F-4319-9E4F-19BE2956EF6A}"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A33A0BB4-689A-405B-A618-B1F248FF2D2E}"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6AF1183D-7B41-4BB9-835D-3F482D0E885A}"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8F706CA1-99C6-4108-A88E-F2639485092A}"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B70E8C8A-36AD-4C1E-8C73-423D2D3F5B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A0DC6EB-D785-4657-A3BD-8B32B5AEC69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96F65F80-C93C-44A5-80FE-CBDA00FBA1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CEBA4993-F70B-488E-8181-486B59FF546C}"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0EB9183F-7F3A-4B35-8849-6C131C4C0CDF}"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4CB9B0A4-3826-444D-8AEC-BBFF81D96885}"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E23F3864-4D79-4F3A-B2E0-36AE32356160}"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F610B5F2-6F1D-4642-9B00-0154C59FED7A}"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BF386C60-1374-4104-92ED-2343CDBE2A63}"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BF10C258-7F04-41B7-BF20-3516D96AA84B}"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DB8029EF-A771-404C-AC01-A42D1CF3A2D5}"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48DDC0EB-FB9B-447F-A97E-1F6CC36AF087}"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E6335441-00DF-43D1-96F3-30EBEF4C457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F39EA051-654D-424C-B2F6-14C163889E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9FF22A74-03E1-4FAE-A1DF-7363AAD263ED}"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9CE4F45A-1458-4780-9212-9931F1B90154}"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B58C1811-6799-4CD6-A12A-891C1A7D8DCD}"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1440F6CE-B4E5-42D2-86C6-12B0E0EE4716}"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7AADD9D5-F590-4C73-AC87-520DB3B6BA62}"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A20F28B0-C0CF-43CF-A29E-63C14EC02EAD}"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89BCC56D-6852-41AB-A779-1FA3AFC4F2C9}"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7E412818-6693-45F5-9FCA-ACA584E29D3C}"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372F7C89-772C-44D0-A5B1-89C8C30EC4A4}"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6F9AAD3D-A633-4CA8-9522-F816F5B0FE7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5A4DFB1F-DBF5-4A47-998F-FEE718782A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95AB3D8C-EBBE-4871-9DD5-B4B4E3D42C64}"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9B303852-168C-46D6-8F61-1F191411A152}"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B73FC2DE-9308-48D9-A48F-7367528E2D6F}"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465ED46F-224C-44F5-AA49-D95980C04860}"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E235E3E7-B76B-49E8-B828-215DF66EF84B}"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10EC17AE-11B2-4DFF-B51F-F142D93A5D81}"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982C78D5-C413-4DB7-AD1B-B9F54711F9D2}"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EAE4DEA5-0219-44F9-904A-991F3714AFFA}"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9C467A88-8250-4386-851A-D4E9CACE3F8B}"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E3EA837A-C154-4B80-9B6E-B3762A658EA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3C49D59-3C38-4C60-80EF-8FC45AE345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64636609-A5B8-4C47-AC08-39D7E4A9B1FA}"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287FF7BC-1BA9-4063-B5D2-F90D41288957}"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D4BC4F59-47BF-45A7-A256-478E893DC2C7}"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1A692EED-E157-4585-A164-6FEB65C26925}"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91BA85D5-C5B3-4D3F-ACFA-8A849766C52F}"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6EC118CB-960D-4EEE-8648-73B095F35C05}"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78042DFE-0A8D-46B4-A5D5-6E804B7B31A6}"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E30387F0-7F00-4ED7-A93C-5BD14F1EAF26}"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46B7D201-8F45-487A-9954-970CAABF426E}"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E856D42B-6617-4D53-9300-D67668F932D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FC36B311-062F-47AB-8F1B-2C48E9AB0B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BDFD97C0-B60A-4207-976C-7EEBCA40B8EA}"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33DE1E4A-C368-45D9-BD10-AA233078C66E}"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0AC4472E-3854-4431-8FAE-6ABA5EEC571F}"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A1299929-366E-475F-9C4E-E72D15501F77}"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4B466A88-F233-4056-A049-7A201E558FA7}"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2045F2BD-A1A1-444B-BAE9-C7633455D07F}"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871D7FA6-0E41-4DA3-B779-8F6E07D92CD6}"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E17B12D5-7CB4-4426-A22E-DDB5F6D51BAB}"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1EB51C80-B122-4E41-BC8D-1CCFCE5A427F}"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3A229160-826E-455D-8B02-2F6F952F7BB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840362A1-D77E-4EBE-9E09-E6D0BA444B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3C6609E7-2CED-4566-947E-3C59EDC70934}"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DA43B17E-1FB3-4462-B1B7-51B56AEC186F}"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1B75603E-7E02-4C6A-B41C-92496A0B590D}"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13B1A35A-8244-4F06-8130-799F0BCC7972}"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DB38F263-DD21-4A8C-9F37-9C972DF61FDF}"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59C7DAAE-5920-4182-9E7C-A172E17163B4}"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622D8745-EA47-4AEA-B9A8-B075303200B8}"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4D4FE1D1-8FB8-44D2-A638-228954D62C79}"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85A1363B-140D-49DD-8374-3318DF66BD8B}"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B273BD71-C7E1-4B2B-9D76-FCF9ACFAAA3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CE8D1815-4BA1-48FD-9729-92F3E8C52E3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05CC11E5-F384-490E-83C5-B14939570CB3}"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0B95B83D-F966-4D75-84DD-2B67339D9FAB}"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5DF86CB6-B0FC-4E72-93AC-0E00E6221433}"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837CEB29-105B-4FAF-9985-2437FC41A36A}"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39097EAD-7DDF-4B69-AA15-A3B1F4E920B0}"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5BF2A3BA-0FC9-47D8-BC7C-A1428CA1C91D}"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8E109CC0-26A4-49D7-8C56-B4148202ED97}"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E51427AF-3081-4A5A-8B2C-16A0CE95FC13}"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FE2DD98C-2D80-409C-85C6-AD2E8A7E687B}"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24A84531-DD87-4F1E-B13B-7C8F2640A08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71215A9-D38E-4009-A1B2-03B98B9D3A0B}"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E86CB301-70FD-4FDE-803F-80332C6D067A}"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9C8A25DA-2A18-48AC-A5D3-8540B680745D}"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547BCD2A-4CF3-4F6D-8BF8-4236C5D465F1}"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5580A1E5-7549-407C-8C07-8164C39023DD}"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3D17BEE3-75A8-4226-9EE3-11AA2B49F1E9}"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A084ECD7-4B66-4E33-9160-E9034A333E54}"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01FFB882-01BB-4B5C-9ECE-BD810A45C16D}"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6A5D10E9-5486-4C3F-8D34-ED02D92A1E63}"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6DF20776-9F14-48E5-B0D8-F6C4C1AB1856}"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6924C7D2-92DE-462A-A693-CB2CCAD9C1E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3058255B-AC03-4E7B-ABBC-43C2EF7A01DD}"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AE47B2AB-948F-4307-B546-56A314C969CB}"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8BDF7F78-44AF-4A31-A716-DC131FF14211}"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41805113-F633-4C51-89E0-5C26F0CA8E33}"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0C6C1B96-8E7B-4967-973D-C1B723195CFE}"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99F265BA-7C60-4E66-8360-84755AB23C3E}"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2AB738B7-CB72-46D3-A43C-33333BE5D232}"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8E05297A-8420-4CD6-AB46-AC75F1FBDD30}"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AAD630A6-784A-4A67-8A2B-A8BD2689F413}"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5CB86BB9-9EBE-468A-8260-CE38A1CB0F3F}"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42DEE3D4-49A2-4760-862B-2D948B916C2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E65C1256-EC2A-48E8-8468-2CC21FFB58E9}"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6D47550E-9BE0-486D-B1C1-09540D5DC484}"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61BA164B-2849-42C2-A6EB-8C4D39DC8B00}"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A1425814-9B5D-4B3E-9B80-25D7D3CE5E5E}"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7E27BBFD-3A60-45E9-A5EF-5797EB339C0F}"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AFA842CF-27CB-408A-9D55-BE7A68349E8A}"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C8234B30-101B-4501-B6FA-3BB122519C02}"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FF762587-AC38-4F17-BD2D-61AD6CE1FFEF}"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F4EE7436-3EE1-4DD1-8F0B-ADCE85F61AD9}"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5E50EC35-F350-41D3-BF69-3E0A4DDC7B6B}"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219776B1-8CDB-4AF9-BF5B-CF147DAB02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39FF700-E167-4C88-B94E-469EFDE133F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04828DF8-17A1-4ACC-B1A7-AD75C308ABF8}"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E85937C3-9D71-4FF6-B89B-3A2F684925BF}"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D2B12D8D-8D94-4419-9891-EB520C6C6FEA}"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79A2E82D-F49F-4FCB-B265-9FFBB7895301}"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7E42B4D4-ECF5-4259-AB2A-C7DA799A91A7}"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8314419C-F5FD-412F-832A-0862F58ACE8B}"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61460942-3E78-4844-80C7-C37BC83B2996}"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1871FB27-6D63-4BA4-8816-A6E5A57F0BAC}"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9534E2AA-3A1D-4C42-A77C-461030024EFC}"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521604F9-5191-4239-BD75-EFB7DCA32495}"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9E8343BA-274C-4BFF-B3AF-9A466F7F22F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216F0E11-C42F-4F8C-A127-44E7CE220ED5}"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C3B51F3E-DABB-4D2B-A581-45B2D0849325}"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391AF50D-E868-41F4-AEAA-81FBC03EB87C}"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7314989D-5837-4145-9A3B-709F0B732008}"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595F3EB9-BB80-4EBC-A1D2-83D39A1C5314}"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CB40E21E-F310-43CC-BB4B-8A20903EEA3F}"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83509E9E-06B9-4828-9E7D-34DD336AAD1F}"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A65543FE-52BA-4011-AA37-C6B7AF49A958}"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45AE3328-7949-41FB-A627-248B82A782A5}"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88E096BD-AF12-4C64-B0F8-9E3717D397B4}"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A44FFD56-8A99-4C8C-8A03-31F3623B117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F528924C-FA88-463A-A617-DA59F0375C0F}"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C160D8B9-B723-408A-89FB-EC46733E574E}"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81AF2C45-2F6F-40F6-8B12-70983998B9AD}"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8067AD62-551C-4BBB-BEC6-2D9FDEFBD05B}"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B01A8E9F-F4CC-4246-A55C-138691CAAA0E}"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FEB4D35D-DDC2-4EFD-B256-CC12BFAD5731}"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6E1C581D-FFF3-4A53-9DF5-0450B9FE2A74}"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2CC080F5-C342-4F65-9CDC-767124F34BA1}"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EEC0D024-E563-4680-AD59-D1D8CFB9E1A2}"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DEBB1E11-F742-4642-A769-93E93DDA0A09}"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8C0451EF-4B95-41CC-83D7-7EECCAA3A66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A167FE1F-D58E-4570-9ACC-9597B522CBBF}"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D3E2D285-1E56-4DDC-A64E-F28CE81E3614}"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0351866D-9B99-4600-AD64-B9E87C0EFFBB}"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2EF6842F-64D3-4F33-B2CD-394BA0E0F16C}"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7DE9F649-AEF4-4C2F-9993-F450B17E34A6}"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D7C2F679-9AF8-4904-B70F-DB2F44214A40}"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AA22F4A2-57EB-4D82-A19C-23807110122C}"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6B4F6538-5642-451E-9A08-7E770E71FDB1}"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A397869A-3193-42CE-BF01-FA79746487E8}"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A0398845-2432-44A1-8B02-89F08DDC789D}"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9AFE9745-53F9-4AC7-A617-C6E0EB983B8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A1A0D22A-F533-4C70-9C08-D07454138581}"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148B190A-C536-426C-9F88-39D7181526AA}"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C15A5A1A-F9EC-43D1-B3CF-4EBBD4C79E56}"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69D9A233-57A8-4354-8AE7-26C2A14C3269}"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27B7AD99-A574-4186-A107-652B8364DFAC}"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49FFCAA0-E04B-4614-BB92-4807BB96F6DF}"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E8BCA963-7BA6-4ADC-8C7B-A6C0AAF05505}"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70477D8C-271E-454A-812A-7E967821E96E}"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E3602516-6FDD-40E8-AC66-77AFFA62FA5C}"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15484C4A-250F-4F81-88A8-463DC808B353}"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1E3289F9-9BE3-43AA-A93D-8F37549FBCC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78A05EEC-5F52-4FB2-8014-8E53895DFB99}"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15F6AFD1-998F-4B08-BD35-2F72947C18FF}"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5622CB44-E616-4019-B70A-9C847BA54083}"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07825E54-9CC6-4716-B8B8-BE13AB290887}"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7B9AB232-52EF-4AF7-B3FC-C2289CD4AEBB}"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D4661B9B-325E-447D-85A4-86AA5911AB2F}"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FAE70EEB-CA3F-4840-848C-4C8A677DD42F}"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8D563904-5A87-43C7-A488-0B4394E70E89}"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44BDDF54-E1C1-45E7-B8C2-FAB52AA6E145}"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FFD5A3EA-B960-42F5-B0FE-423E5F77BEC2}"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7AF9CBB5-A06C-4C2D-B0A4-2E92D440096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041689B7-C5B8-4187-8889-56D13E2476F7}"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D694CDC5-6C81-4CA2-9872-261F8B5DDCE2}"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9F6141FF-6AAA-4D40-969B-A23C0B73920E}"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4BC6B6EA-B5F2-4A6B-937E-F0F41F94F9D2}"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DB4CF8BF-6961-4849-BF25-BC19A47C07CE}"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78F1E1B1-15F6-4888-85F2-C0C515644E55}"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B79E3410-CB38-4553-A380-9D4375A4CBC4}"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CED860D0-B434-48EA-BA92-462D76CF1E92}"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26BC058F-3A96-4276-9F40-F32B111CC94B}"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E4C88477-7EDA-4C52-A569-4DF4F21F1760}"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A4789CEB-7A94-4AA2-9A70-488A684BE1C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4D3C9F98-593D-491F-89EA-7EEFAB3A1141}"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418C48CC-7A4F-4EFF-BEE8-F677EC637AC1}"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575FDBA1-8CF7-4158-A40C-1174BD46B64E}"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55C10DC4-DE6B-4D5C-942F-7F2FD75C614F}"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9727AA1D-9D2D-45E4-884E-D1E4E3B6F0DE}"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4C949E7B-36B4-43ED-BF18-B4B7D499FE31}"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63B334A2-7DA8-46B7-8FE9-3B66A66F14E5}"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97A81373-FD72-43C8-BD5D-060827873155}"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1773A8F0-348D-4052-BEC3-2CFFB63D5B4B}"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3E015CA5-4E4E-453F-AE0B-BDDE6EEF9A42}"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40B478D8-5A0E-4CED-ABD0-C44BCEC0C51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90F709C3-7C70-43D3-B6C8-7B8FBF5BE46C}"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CFFB6710-EC24-459F-9393-6AF252B2C65F}"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75479DDF-951D-489F-A62C-6997ACED2177}"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4F778013-FD51-429D-BFB3-05DF40DF67F3}"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1300487C-C86B-497E-8A64-16E1997008C7}"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EB3C7FE0-0222-494A-9AC1-7C5F5DDF789B}"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D13617FE-E153-44CB-BBA0-4C8779B02F9D}"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03A7C7CC-E46C-42CE-AF1F-444122E928B3}"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F272A276-C3DE-48C6-BEE8-936A7C91396F}"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9FE69A71-0229-4D04-9DC5-F1B237BEAF2D}"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CE8B0DD8-5DBA-4043-9411-05AD4D04C71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7A99708-B5FF-43ED-BF45-9DB691BB8AEF}"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A4F3D188-189E-4233-A2F6-0CB5F19137C2}"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6B726938-4397-41B4-8C4A-87542A423D9D}"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251E90CC-33B0-4AED-BC98-66A7F7E7B09E}"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9B7A9FB3-D583-4899-B0C1-91E24BD8E18C}"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6A307633-E3E3-44D0-B7D4-DBC10A1EF633}"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FABF744D-2DE0-4EF9-91F1-06144BEE4961}"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6EA77D37-0B59-40EB-B3ED-AB61114F1DDE}"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FF302515-7520-41E0-BBB1-9FB5BB089B6F}"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BD07B120-5D5E-4076-99B8-FB28AB669CEE}"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70C27B5E-8020-4AFD-8A1C-39A9CAE95F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01F78DD1-1754-45BF-B9BB-B8196CE04EDE}"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DC73E948-8774-4D03-914E-F750AB2E495A}"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662B8403-4096-43EF-BE90-7381CA7823D1}"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8D6295E4-95D6-4E7C-B05A-F69026695619}"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E00D4579-CF34-4ECE-AB2F-7430E638CB7F}"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CE41FBE9-B4F6-4B80-B02B-87CF79D8F3BD}"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A9355A8C-6BE7-46A5-9F34-06AD05254DD1}"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CD6C4245-6F5A-4AD9-B6D0-79E7087FBA65}"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493AACB8-4CE1-4AF1-8E06-E2081AF84EF3}"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411D9D4D-D059-46A7-8492-EAF7A9128E48}"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81762BE6-D091-4815-A0DE-7CC1D1B35B6C}"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1E42D36F-2B58-4280-A1EC-F509DC88A48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1BC177FC-D357-440B-88D4-833A40BE4C76}"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B2256B00-897B-4BC5-AC45-70A86509A123}"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EC4E916D-D099-486F-8FF0-14CA1BE4A9CD}"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39687E8E-6E1E-43A8-8BEA-918A5BDFE2A7}"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3F9F90E8-407D-4441-8229-F59656858196}"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BBCB2D2B-50C8-4C06-9104-215FAE445164}"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E26E0656-724E-42AC-879D-B6A5772BEAC8}"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5B5B2CE1-997F-4771-8E14-6C491F542E51}"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20E84DB0-C025-4861-A49B-E92CE679C942}"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352D25E4-6AF9-4315-A290-1C12E731F5EB}"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D6B58FE7-F972-4155-B141-D69CCE47FAC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433572E3-120C-4C82-A78C-F509493DFC79}"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DA92A31D-131A-4955-B8D4-A57B4E8A6D9F}"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222D4807-DD94-4845-9FBA-F947357B9BDC}"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4B4FBA74-FDB2-4054-B124-CFA3E11341AE}"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70644027-9177-4A76-9370-6C76CCAFDF62}"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CA998C4A-6AC6-4842-8AD4-6D5D4DE382E6}"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E4D707BE-6C7F-478B-A7AC-922F37A165E6}"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9183C6B1-9786-46EC-8A11-7000D92791C3}"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B3E12EFE-B3C8-4315-A5B9-33D1244E8F6E}"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C22E32B2-A65B-4493-AEDE-E97CE2F6CDC6}"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1D9040D6-37E3-4A7F-8EE6-CD4CEF9A0FB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241D3A16-75FB-47AC-926D-6566D4358D9C}"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A4864444-CA57-46F0-A098-1E3380BC660C}"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F0C3B454-C76E-4263-A6CA-2574049FC664}"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C5B0163F-08C7-4EA8-A616-80ACE549B4DC}"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23FDB9D7-C090-4A97-8608-460BE6265C51}"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91D8403D-9610-483B-98C6-5598C5EF8964}"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77C7832D-5725-4473-8037-23A3413FE3C8}"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9EB81030-F261-4A6F-8751-B84BDA905CFD}"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3CC31ECC-71AD-440E-A2FA-A60D1E01EC10}"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76A40F13-5211-4E77-9CFF-9658FB8D04A8}"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0380DC0D-639B-4ABF-BAAD-FF96205D908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3418A010-1A49-4BCD-9038-D63D03E41588}"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B8C850D9-6D76-4386-A7B0-8DC2CB14AC8D}"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A5E77898-A87B-453F-8267-7F7FA86A3EE2}"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C58F2A8D-4D85-4E10-A9F8-0E60B59BEC74}"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8418D22E-916A-4262-A102-0E4554A0EAB7}"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71F58C5B-AE05-42D1-B3FA-116F2FDA857F}"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18F712C2-15FA-4779-82A5-EF70B61B7560}"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AAFE093F-4F7A-4AFC-9330-260FB863F826}"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02588F91-DB21-4F36-9428-7392C82FD065}"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7AF58C11-D101-4203-9D18-462B5C4F6706}"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11CEA457-85C4-4BEA-8063-DEE323A8DB95}"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9F5BA67B-7CE9-4867-87EE-643D04592B55}"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1F0BBB99-45D2-41B5-946B-CE4044B789D5}"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33A644E2-4FE0-4FE5-A5BF-711D528E3CE8}"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70B9568C-FDCC-4639-AF46-C2113AA37C87}"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5563210B-AF04-48DC-932E-179E1C4E96BB}"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50033568-E224-4C3F-AB18-A367B55BC5C8}"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C98D0395-7DEB-4A2C-8B9E-CB01C21F04AA}"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C496EA57-1298-4AB3-AACA-1BE9FCC0C80A}"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8634B3DC-4B94-41D2-B1C7-C0EB84ED8240}"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B10CA956-D206-4E2D-80A2-E7F13CD8B235}"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D00D9876-9713-45CA-941C-20C6F44B7BC8}"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61055853-8F37-4A51-AD0B-9309A71ACC35}"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576F956A-1F7A-40B8-9B52-E6736EF0C690}"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C075BD69-E920-4B62-8BB1-CDB142F283D1}"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B96D2646-B5A0-4E37-B381-1568DD5012E4}"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1703E977-69F2-4AAA-8E45-BA1ADA0641D3}"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354D0F59-1333-4204-B7A5-A1C5644EAAB8}"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9741555F-C6FA-4398-B6EA-5209A7AAB75B}"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D821D7EB-31CD-4730-B7D8-F9F134952EC7}"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0AC8B0A0-1DB9-4A22-B4A9-69232BC496DF}"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03B05FA1-C9C8-4326-8D22-3F106D147118}"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E2A4E566-43DD-4CDD-B144-7D8FB5890085}"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0FB48368-191B-4F36-B765-40198323573D}"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D231BC58-671D-466F-BBAC-250272A1F1B8}"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FC8406AC-F62D-4747-96BA-BF1151DAC67B}"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4D995CA2-F294-4B1E-9767-6DD78C7A87D8}"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51B78A71-4D51-49C4-8F47-66221345ADDD}"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0612F87D-346F-46A2-ABA7-570E1B642543}"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0F08582B-CF68-400D-B4A6-3D4E05C1BD2E}"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AC2A6D19-FF8D-4261-86A4-91453E709013}"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E66BCDCB-793C-4C26-9350-4752DA7B9582}"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FEA37976-E42E-4522-B311-1B71826ED65D}"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04FE6A7C-814B-4BB2-9DC3-8F11822B08AF}"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DD85D8CF-3BC3-414B-81CD-BC822AD38FEC}"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66250557-A30E-47BC-8D29-075758B3E0D5}"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D04C21F9-9FAB-4A99-A9D6-B2F826A66DA3}"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F1A4F2F9-4D4E-4CA4-8031-82C497A5CD6B}"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D859FB94-2CB5-45E7-9A16-793926EAA5CA}"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0EEB89CC-E54A-475B-9332-0C222BA32189}"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99966623-5560-4D73-B51C-6FDC0F478C10}"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C69DE159-C6C0-485D-8388-AA7C9C7BFF43}"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5FF6CD65-E8E4-4C03-8A0D-0B990069D20C}"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CEC25846-7B9F-4C28-B1BD-5D7E6F522E04}"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2BA3EECC-F0B4-4005-8F9B-4C25BB036B30}"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4525956A-4C9B-490C-A383-9F7FBD18F872}"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02C97BD3-3AF2-4969-A8E4-B212BFFE9340}"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1F435E09-4604-438E-AF10-3EC987720741}"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C7FB393F-6940-4F94-BC08-A636660D829C}"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E7CD4DEE-2DDD-4942-B3C8-86BB4F76BCC6}"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A5566073-E60D-44C7-A257-5B383BFAEA6D}"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FDC468FE-7548-4DFE-8756-F9EB005AEE35}"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2C8258DC-D5C7-45B3-9CB4-9485EE3D1F62}"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A87A7538-1001-41B0-985B-CC3143FD66C3}"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D6840B30-E7F0-4649-A38D-83ED7E4654D8}"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EF41281A-C732-4726-AF86-65A5AFDF79FC}"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48B6F6D-FF07-4E9F-8486-219B30C8A9B9}"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CDF91FA8-8F13-4EF0-B76E-45D9816183F1}"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769C2A25-E4BA-43B5-B008-63940C3CB20A}"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4A24C65F-5893-4DFE-BB55-7D9933006CD2}"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9C49CF4C-3B7F-4724-ACB7-C5FF09742D7C}"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C102EFE5-AB6F-4BDC-9263-D5FD5F1FDAD5}"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9245A7D7-AF1E-4984-8A1D-622F738A1545}"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D2BCDEB0-0FC6-453D-A062-328CC55FA8C4}"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3DCE491A-353B-46C8-9168-B2E569C8AF20}"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EB22B2E7-D596-4EC5-A3D9-DE545CD573A6}"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7846DBF2-1E49-4A86-AED0-5E07ECC47689}"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365E5D43-A2A8-4B37-A4B5-5F5219F6612E}"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AD887EFA-A694-40E8-AF59-DB18746686CD}"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ECF496DE-55DC-4400-83C6-AE887A977303}"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093EFCF0-EA2A-45AE-8A65-2B5267430D1E}"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5BF355D8-40BB-492E-88D7-26843026E920}"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ADBE08AD-3DD3-43B6-8C47-8CE7DB9D93C2}"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2DBE9117-7A0D-4D36-A0B4-0E2966A430DE}"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D5F42C08-5755-4510-85B1-1EABF45C2729}"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0D39FC9C-95EE-4AD4-BF90-60EA62EDCAC5}"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91E7D31C-FA3E-4FA6-9178-6584325E249D}"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8D0A64A9-1AB1-4BDA-88BD-6F03E6B36409}"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F9F28A27-F4D3-4165-A445-BE3E86B6A3DD}"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07C60D69-7A9B-480D-8056-A4FA6AC983E7}"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A003CDAB-2916-40FD-8857-E2E5B9A98722}"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C2C1EFF8-9AAE-4C54-AAC3-31762FE131A6}"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A18E07F0-11AD-41AA-8F6E-8D3925E74723}"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E55A6319-4613-4A74-8E77-BC7A937E5FF4}"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369AD5EF-C180-4367-A8AF-FF74B459D52A}"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C7F79C32-7E1D-4603-965F-8FFE7FDC005A}"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36973F92-4E93-480E-92BC-B302ACA287AE}"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EEEAAD58-E7B5-49D1-BB42-BDA80E491C72}"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B2368525-E9F4-48C1-8FA0-36C0A802FCFA}"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16F59BAA-2C54-4F7E-8F49-482616E69746}"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4981FB81-D937-4223-9B0A-607A8D952CDB}"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BCC060CB-0576-443E-8336-E3B3AC72A7C6}"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85D5C4EA-47FB-45D7-9621-BC3975BAFF11}"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F021DEB8-3930-4D10-8594-40F9C650D8CD}"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1C5E41AC-FEFC-4A0C-8633-C19E15114176}"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52F1A49E-FB43-46A5-94A4-AC5E2AB1127B}"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5A04AED0-8787-4058-A5D9-ED2250AAB2DF}"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C7F2750C-EF10-4316-8817-BD38CAFE15ED}"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FBAAD165-96DE-494E-A537-4886B3DA2D51}"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DCFD584E-332C-479A-B9CA-9B7EAFE7DDB9}"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C768B21A-B8E1-44A0-AE82-252F3C5E6BD6}"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600BC0B1-ED5A-446C-A4E1-17C1AA50D418}"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ABEA05AC-2BAB-46BD-9930-DBB33409BA67}"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9A678FD7-D230-4FAD-9397-5615965ECEC2}"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12714ECC-9995-4743-8481-8DF9DBA477E1}"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01DF60FE-744A-4853-B979-6950B45EB9C5}"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A650C477-F7EF-44FC-87EE-1F8120F84743}"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59DD484D-FD46-4C80-9FF9-FBC10141BD55}"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EAC1E841-E8A2-4FCE-8D7F-451F4286FAC4}"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DA0895B4-C635-4BB5-958B-FB61D65A9A61}"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75E9EF73-89E5-4D40-9D8D-7AEEBBA0E2A0}"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891F093A-A47D-4069-83B3-F6363B96D430}"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979B5E8A-836A-42A3-B2D5-9A8B487179F8}"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540464CE-EF2D-4DA4-96AC-0CFEB2917BDF}"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7C33F991-B94D-4676-AF13-B34D95849D24}"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F53D9F6D-BF2C-413A-BF7A-8E6D351D2E97}"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F8A83205-3F5C-4084-B3EC-4CBF82552609}"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3DF65299-F3A8-454B-8F61-EE2176241F0A}"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7B1ADE8B-38DA-4BE2-8757-FB72FEEB371D}"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ACFA8868-1E96-4B58-9370-6AE205DF4E42}"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092BF960-5007-4DD3-90E9-257A2869E519}"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67907304-E80F-4E5C-A633-2AB144E48047}"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0C7D3F94-5F09-4DB2-A8F2-ED7D5959AA26}"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F758A4FF-2573-46EA-94BD-F2C3EDB303F5}"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B22ABFED-84D6-4716-83D1-D6E4488CE1A7}"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1D6C77C2-BF73-4A35-978B-7BDA7CE29951}"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1F24696B-2C8C-43A5-81E4-01B3A73EBE4B}"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16560A82-61D3-49B3-91BA-60C5F6593626}"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5625D5D8-1C1F-4CBB-BC8D-D05CBCB5DD71}"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DC1C68B4-122F-4629-B07E-7A1DE34B095B}"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B4BB24A4-6E65-4EDF-B098-4ED7709420B5}"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E38DBD4A-C080-4E26-95B7-97BF0995E23B}"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856B13DE-5C4C-4D92-9A31-C6B4BF51B3CD}"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8AA98176-77CE-4440-A115-38B30D3A078E}"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34519CF6-887A-4235-9098-DC44B96D3011}"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393FD875-B731-4F9E-8249-BEBC21CAE7D2}"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CD884D15-7015-42EC-9373-F39479414466}"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25C7CFD6-8B18-47E3-AD36-95FE6CA2EF34}"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0EB59DED-9B82-4175-A9ED-0AD7549189E6}"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33598668-9913-43A5-BB79-3A97703D5C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55E1E6A-B0F8-4549-A95C-5E1D95F1F1E4}"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5C1E671B-B578-4807-A08D-52D3BDE2C31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86954DDA-B60C-4627-A8BC-E29724DFBEA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8D2E2762-99AC-4449-89BC-0495CC35BA08}"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6B65E49-F770-426C-A76A-3E56E4BEDD3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6E28B65A-2DD2-47A5-A29A-54660ABACC4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02B13206-F310-461B-8D52-0FE05972C7D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B37666AD-0545-4973-B0C2-5AE047DD59B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B56862C2-8122-4FBE-8237-63B9EF74515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731D8EFD-F17B-4DE9-BFE8-34E8D919336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E5F417EB-2777-4D89-8A5E-E63573574A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511BF64-979D-44B4-81AC-D4CDFBB49C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103EFD1-63CB-4C4A-B81E-1597D816DA8C}"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B2C555A5-3AAF-41F8-80DF-B9C299A4A74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AC8E06B8-E87E-4EA2-9788-45B47171DC4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B761CDA7-FC36-47A6-9A4E-ECA73621138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DAA960BD-07AD-4C4B-A1FB-F7F55E782FC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8A3CEDAC-F096-4DC8-8CA2-530E0CC6A7D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86C3B7B5-74D0-4E61-B4A1-3B74BB733EC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C8092243-62E4-46A8-A675-A27B982D17A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05EB2BCE-0548-4327-A327-A2D6727AC85A}"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813595D6-9C24-49A6-A5B2-BD776CE41B1B}"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FBB3CE27-94AA-41F2-B27B-42091881A7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DA16505-6F62-4D36-9C91-2BD0F40E4328}"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B232D42D-7CD9-429B-96F1-78AFF6C22136}"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8F1CDBE6-B65E-46C6-B480-879BC0D51F0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5D4CEBD3-DD3E-4CEC-823C-5050D0645A9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8E481347-E852-47F6-B008-7CC24A15742F}"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6123D1E8-B818-4E23-BC6B-D5FB0D58B0F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36304210-C392-46B0-BD5D-9904BA590BD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E4AACA10-2C78-489E-8110-D6A66DDFB12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A4BDD76-E36D-4F33-BD1B-A325F0C5892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9175E2D2-D23E-424B-88AB-D04CD13669F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687C04B0-7683-4991-B5F5-998CD3334D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4FD7CC4-57E7-4273-8469-8E08B3CE7EC1}"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82D6E328-EA22-4FAB-8845-7F9F7455546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B45DD1EF-D87B-4AE5-AF81-C7B3BCC2B6F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BC02B3DC-FF56-42E7-AAA4-F3C3BA93BB3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DE13C50E-1D04-4405-803B-4CCD13C5AFD2}"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457AB94E-9D58-4A13-AC8F-945C42DD16E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34E9C720-963F-41E5-B21C-7C697DB430B9}"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67B7662F-1F09-4A99-A630-B4B94BCF2CAD}"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1AF23026-D2DD-4A35-8FC1-7387E4B3112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2B0A1976-F84B-4E68-B562-70C884B4789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428FC25B-D3F0-4BBA-AC15-9A3BFB3617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FA524220-6519-4062-B850-ECFFD3F5F7A4}"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542ED386-7E63-44C9-B0E1-DBEBA41977B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008F0943-2967-4FA6-A6C7-028798FACD09}"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DF9BF6D7-6900-4F52-AD8F-001A9FECFAA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8BA29A62-C30F-422C-9984-EAB5A72CFD6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55A02B19-FD0A-4341-AEA1-D628D46EFA6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A4C6F250-8350-4702-A4B0-627BD59A885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211A94C9-9893-4579-AC25-675C87F43A5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9E72D770-3C62-4565-A11B-B9FD945B751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CB94F8CA-6A68-48BD-9FAC-0504C36B4CA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40F967DD-FA4A-4059-9A70-490657C554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CA8D4A83-5398-4C67-A779-2BBE3AEF65B3}"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E43443FD-FD84-4AB9-80D4-BFCBE201DAF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26B5EA32-42AD-4265-A3E5-F5D102DBE62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90EEF9EB-5892-460C-AC20-823843D6DDE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9E2299E6-9663-4942-9434-8F59F4A9381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5553EB84-C03B-4C9C-A5EE-E3D9EB2ABB5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12DE7E3B-9020-4A75-8C9D-6B7C29C59C7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4504A51A-99B3-4B8A-B325-FD61A67A7B8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68838F4B-BEBB-4367-B4FA-2D3592DD634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79E491B6-A7CD-46DC-89A7-C23075CFD31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FACACA27-B76E-4945-8411-F72F219B65A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0CFDE9B-9256-4B4E-8289-6777F53C8200}"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F17299C5-2AEA-46C8-AE07-B3EE499FD33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E4F92DDE-1165-4D16-BA76-3D8B59BFD91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692D4D81-69A2-4B42-8B86-54C47B308F6C}"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F218D86A-8E17-4D2B-9A5A-02E0072ABCD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64112DAE-DB17-423E-9A51-FB69906F1242}"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AFC5A41C-8BA8-45E7-AF11-F8F3DC7DA5C3}"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9FD630DC-2603-4BBD-8239-AE8F1972AAD6}"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DF720267-6F2B-448C-8D66-0C812EDAE0E4}"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49C87D60-1EEE-49D9-AB16-7F6F4BC93F0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B4A8A10D-9E41-4604-8D5B-636743CF492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55E53C-ED56-4F61-909C-37665B995B09}"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464C5A19-53BD-4671-9350-F708A522F0CF}"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94BE69DF-5E65-4EF3-B683-2AA7402DABCE}"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D8263A89-2E82-4878-B9F3-144D5DCEC00B}"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D424F32B-59D3-4313-8685-7F6606FC4922}"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7DB6F177-BB17-4CD4-AC8F-E784FF641358}"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F4B4801D-1A69-411C-9B01-268001F412D9}"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B5F9E245-5DE6-42B3-86DC-2AE6F533A0C6}"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7D00D631-1455-494B-91F5-429197C4C3E0}"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E6F2FEDE-CAEE-464D-8BD5-E67EB931112B}"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A97DD75D-29F1-4099-BB67-2173D5D1F2D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C2EB0B-457E-4647-B0C2-560D21D29FE2}"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F851AF0D-939A-40EE-B081-43CA47C656FA}"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29320458-C7C1-45AA-AA8B-771F50340079}"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05D2EAE2-C353-4517-9273-342757F05CE1}"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CDE0FEDB-5FC5-4D0A-9DA8-959694F47850}"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ECD99E90-5CE7-4977-9AEB-0452E95C4C88}"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69B26586-AE09-4F98-923D-7A4F12B33E0A}"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6B902F63-3AEF-4AD8-982A-99513EA667AA}"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D23302F-7B03-4B19-AA82-C130F25471CA}"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37393ACD-7661-4D2A-AB31-04B4A6C59D02}"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3D1BBFE9-837F-4C63-88B0-7DE5891A96C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5DA4870-9ABD-43EA-BF4A-FF58E9964534}"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016834F3-DF11-4431-8BBE-61160A555B74}"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2941B157-AA06-4754-8A42-DC8452E90C5E}"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0BDC66E4-A180-4F1D-A478-D26D95CF87AD}"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34B0865F-5765-4FBD-9AAD-0296A3734727}"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E1C7969E-25B7-4B2B-B798-4066C5F21135}"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164ACCF4-C96C-4F96-A4EF-79F5EA69D7C7}"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29F1473A-C4E0-4F1D-B253-E2319C925317}"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95AEC4CD-F30C-4DED-9549-1312BFF35F05}"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2FBFE818-5608-4441-954D-07062A0AA2A8}"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F91BBE3-47EB-4784-AE28-5373F03E588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A4DA45D-1B08-4DB6-9CA2-F82B94FAD068}"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9B54C31B-CBB8-46FA-9791-15115DF600AC}"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E717D770-F158-422A-A337-01BBF55C6817}"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DE379B9C-E080-4D3C-B01F-C7E39B513925}"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AC518F31-A5E3-492C-A06F-B37300635C87}"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64B4392F-3E1B-4879-BC94-032B9909A116}"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CC3E8550-76E6-4267-A439-A1A07CEA15B7}"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24BEAB53-9E3D-428B-9132-2EDEB206EE49}"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359E2319-0C9A-4390-80D5-E4D9F6670617}"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7E27A2CF-849A-4780-B030-0DCBAE7B1F4B}"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245B336F-178A-4B39-842C-9149649336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F1BB156-29B7-424B-A72E-C4A1C5B710F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619D3F4-B179-4D55-BCAC-D2DC01254A60}"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2842B01D-EAF4-461C-BDA2-F821A7762EDE}"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A7DBAE1D-DFB5-48EF-B33C-8E8A4DEC4EF8}"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A8EB7F6A-8CB3-4127-9FE2-268746817836}"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B828431E-7ADD-43B2-B6AC-3A9DF4238FD1}"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A1CA42DF-74A4-4692-8E5B-79080C998AF0}"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598C17C1-DF6E-4EE9-8DCA-6B3DC5892571}"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06C738ED-0086-4640-B848-B1029F627B22}"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86BC7D93-8EC6-4D6B-A75F-F7754DBE403B}"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84891152-6E3A-4B05-8FE3-8717D3038926}"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09D99ACC-6675-44FB-9882-62B46C827EE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698C2F5-2102-4E7D-9B03-C34228995165}"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EB5D3321-65EC-4CD6-9BDC-2AF319359CBD}"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9F069262-A1BF-4AA1-B913-FE4D3E79B950}"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7898E6D5-CA05-471E-BA35-2035DF19AA9E}"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EAF57613-7218-435D-83A0-4043289E6244}"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1FEF4D3E-7B3E-49F9-8F6C-E31D427F1C06}"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5950617B-3281-463D-AE31-D1FB61F79726}"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E07E1D24-AB4E-49FA-8C7E-40DF9D125798}"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76FEC44D-04E8-4BE0-B83E-8DBCD55C475F}"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32CFFDBB-B7B5-403E-A1D1-FCE52B3A4FF6}"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85569A7C-A943-4696-ABAB-1CFCB028607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328788C-B327-4B83-B759-771B61D73FE8}"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07DA5CCC-44F9-4E54-A9FA-58C7EEC5460E}"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0E07E843-D5CE-4EC6-84C8-220D23DD5FD3}"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85E56C84-8E25-4A7C-8D9F-BD504C8C77B6}"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10A87C9E-642B-4E07-9867-0B5C3C1A794F}"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C496A49B-951C-4967-AFB4-AA7661123312}"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0AD723DF-B0A3-4010-8AD0-1F741BD94670}"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74DC33E0-729B-4E93-8EAF-DA36D7352E8E}"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D4E78329-2CEB-40F6-9132-18A1B0DC3AE7}"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E5AEEC22-D21C-47EC-AEA8-ABACD1F982FB}"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8869EAB3-EBF3-48B0-8413-418E490E607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220C528-D6B8-4AFB-9074-7561F043149A}"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227A2FCA-0746-42C1-9755-F1260CE639E5}"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E296FF38-02DF-458D-BAA7-23E7B93EF508}"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CE8A73F5-A964-4251-A33F-27B2014D795F}"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77CB9722-7C2D-4AC2-A135-555E63CC9DAE}"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77936F92-6D62-47D0-904D-0CB220A87812}"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041AFFE7-4B8E-4660-BFEF-862577876B65}"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E872E932-6A52-49E7-887C-6125EA6687D8}"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17A371CE-F747-48EC-99DB-455D39AECA44}"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FDE92B1A-25A2-4F6A-9C74-2FEA7EEF83A7}"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537BF5A5-0F5C-4AD5-9A49-49E13D9B045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1D6F32F6-B0B6-4390-842F-6724ABE16B15}"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7BE01F4C-4761-4820-BCA9-E0228770362A}"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2F7E89A9-F97C-46D4-98E4-3A76F3668F41}"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3061F385-DF6A-402B-B976-AC10C7C7591D}"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F1B5F942-4B0C-4390-A16A-349B07D33196}"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9A46EAAA-3398-463D-9179-F8D8495EF089}"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0FE7FC7A-AA85-477F-9900-B50F2291F5F2}"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88293AFC-3A2D-446E-A913-3020ECE6951E}"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7EFCEB14-CB10-483D-9AD7-85BEA46895E6}"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6B3BB31C-D1A2-47E4-A186-0AEBB4208500}"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83B8B323-8798-4FFF-AE18-28194D1E0F8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943FF432-31CA-467F-97A5-93E440C48EB2}"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1F328B71-C61A-4F6E-A301-3B2156BD8D9A}"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52DFE52E-A83E-42BD-8079-2F6E9A1A81F4}"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4BE2E624-528C-4745-817A-E39367D91424}"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0A46AD31-292B-49A2-B610-C8A90A855701}"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C4D4BE62-8359-49DF-99CF-D1CE11FF180A}"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905420A7-85D3-4BAE-A531-9959315A3A24}"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C2B8E484-BC1E-4EDA-AD06-01BA179E0951}"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3DF829A2-31BF-4941-89B3-D620CBD03BC5}"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DE0C2C0C-B7BA-43FF-BF6D-2798ABE971DF}"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31167764-FA28-4BA6-BEDB-A5CCA4A1AAF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A551AFF9-A1C0-4C83-AE72-3F8B58135C00}"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CF437E9A-A468-4A75-B571-7DFF89B7C8E3}"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267B5F6D-DC81-495D-B1B1-9F9E2E451B14}"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286119A4-CA29-40E1-8831-99DF7EB06A0B}"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BD21D1A1-FF8B-4408-A2CA-FC5498F6C691}"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A4C8BFC0-06C2-4EC2-B335-5B50CE900BC4}"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524CD782-B2BE-4AD0-90A0-CDE190706AD3}"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D72910B6-72EF-4912-84AB-3266811FDB04}"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B8EBEC1A-59D8-4C02-A32D-10CD150698BE}"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7C776718-3C3C-4097-A598-6F9356817C30}"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38B76A49-65D5-44A7-A04A-0272B175476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A5D63A-1F3F-4F09-9B80-B88701F04099}"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2A38461A-87E0-456B-88D8-28DB69607815}"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48D45F7D-258D-4348-81D4-C049DBBC4DC3}"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53FFB218-FF77-4DCB-B53F-C860AA9B3739}"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5BF4B8B3-B4A0-4CFF-A4E5-B18B3BC20DBD}"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B57D81CC-9291-4326-9F34-716A7C11D147}"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D34092A9-9387-48D4-9D1E-B37DB329562F}"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3175F16B-2651-4B80-A0A7-A87D99351925}"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F6D8DEDC-4B11-41FA-8230-08DF20F1AF33}"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6C15A393-91FD-43CD-A9B5-6A394F522A74}"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1D44BC6C-100E-4156-83B3-ADC9F81D29C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172599C6-8E66-46CC-9021-BA2A99638CA2}"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B1BF177E-AD20-4A6D-A129-C84D320D6D85}"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031AE385-8B7E-4F52-B8E9-D4E66DBF0513}"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6165D6F2-EB2B-4BD5-B67A-23690225C61F}"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F60B4FF5-D490-41E2-97AF-2EE5B7ECC7D2}"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58CA5495-29D1-4F29-92FB-0F1A1A1FEDE8}"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6567711F-CBD0-4DC5-A175-1CE2D76057A3}"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B06E8F69-6326-4169-92B0-A2EA5C21D49D}"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9C22BA53-F5B9-4823-BB13-421F1D00D3D1}"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FA94B087-9353-4A0A-BC83-D70B612BE439}"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6788C692-1D19-4D4A-B004-B20F9E0A8F3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A4EBF08-FCFB-461B-8387-32C68DEB62EA}"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F30AE49A-16B1-465D-B3EA-74DE84A1A691}"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89B766FB-56CA-4168-ADCC-78CDE26F638F}"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FBD384C9-833A-41F7-8667-E412E18C7A34}"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79FF05B8-43A7-4D8C-A19A-BC71D33CE526}"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BA6ED40F-0674-4C04-8A0A-6337039CCB83}"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BBF21A29-9CEB-4735-9568-CA8939629ECB}"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B3BF0658-C439-4C87-BAAA-F24CE5FCADF1}"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0BB18E2B-2002-44A1-B1BF-AC13CD699897}"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06F477DD-A276-4558-AE5C-D3D4DB20F8EF}"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5223E07F-2426-437D-AF39-C530D67F84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4991E4F-C48A-4A5E-95D0-68FF6D98643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5C78F0B7-0F8A-400A-BA67-EC053EC21E52}"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095131A4-9D7B-4F92-811B-574675D5927B}"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6AE9C573-04E9-4DC4-B4C3-06CE4764F7C7}"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3D718108-6B90-4EEF-9219-D31C9772730D}"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8C4C0C02-FCBD-407A-9EE8-2E734B3F828F}"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4C1A1651-9D31-4FEC-8A16-A53FD866DA2D}"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A4AB2400-8A35-4734-B273-177E082CFAC5}"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9D16E7D3-5D9D-432B-97DB-031EB2DA8DED}"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D749F3BC-BF1D-49A1-95DF-3B4CA231D9A6}"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4515D954-DF21-4871-8F62-F212464128B1}"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F37F0F7C-F115-4BB9-8FB7-1F0DB032201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9AAABE32-C458-45C6-8E94-44A5FC47F320}"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BDF0608E-3084-4045-9D56-389FB076466C}"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FDA38062-FD5D-4232-84C5-F0C1AEA6F67A}"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9E11DD9A-B3DF-45B8-A58C-B2E260C3C18E}"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BF794A69-6B46-406D-88B2-BE02CE197148}"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C3A5B0F7-9E5A-4442-B542-F8417630A812}"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AC393277-6999-4905-8F31-919F84C3606E}"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B58B74F2-5106-4E79-8875-7751E453604C}"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1CE84D08-EDFA-4B12-B776-DEC36E1AD84F}"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60337701-6849-47D3-9F8A-A5E5E6768EAB}"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B87F3D3F-F31D-4B46-911C-E610DFA0681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4B05457F-2F6B-4624-9709-63E7F1A2A84E}"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83E86898-D868-4072-92BF-F0D62720B582}"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B17A63E8-E64C-44C9-8F35-9E1251EC2F97}"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78C57246-746E-4ECA-88F2-1428E3DB84C7}"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DC149018-5702-4796-8E03-74C25FC087CD}"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C853B1FC-815D-4351-883D-4AF17906E03A}"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67EF7D40-E8D0-45B2-9BB5-8583FB4B7C12}"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D33D8C60-584A-4930-86A0-81B72B76CF3D}"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20126017-483C-45AF-8418-BAB08CDF8F9C}"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B07F3CE6-AED1-4A39-9E08-3DBA60C33248}"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C8BCC429-E869-47AF-910C-630FB056B56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8E886D5-7620-40B9-BE2F-2F11D6685FBF}"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6D185DB6-122F-4CAE-B575-4C3CE81F46D6}"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5EB5297F-BFC1-4599-8C06-BD7514467C4C}"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1E44C777-D01C-4112-A088-7C961AA8DE59}"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0870F319-C3AD-4A52-A279-54636E723632}"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4E7DF372-1DAB-4189-8426-7EC2CA923205}"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E6260F90-FF90-4629-9263-EA4988DFE381}"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6CFFBB78-429D-4C16-B91C-713C72DBD971}"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AB1FE07B-A89E-4E17-B45A-5321560B719F}"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60168799-4B05-4673-B422-DEF5C3A4F742}"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9DF50470-1AFC-48C0-9888-0D0F60B715C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8A87189-9668-4A92-9C41-CE73362EA52A}"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7D66B06-3FFB-4509-B804-4A0E32AD0353}"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FE8C9AFA-6137-43A0-833C-43EA524226DB}"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E6E065DF-2D14-4F7B-A4FB-F9D61B48D2AF}"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2752B3F2-2B7C-4202-A3E6-C678533AD316}"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CDBF87E8-9DC8-4DAC-8121-CC8D0D35D1F3}"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978D7339-1571-4F20-8831-44B4D0D2ED3F}"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E1D66251-6B7D-4FB9-944C-82B9071F89F8}"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5BA31B75-1D5D-451A-8FBB-C9A7846A287B}"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5704CBED-26A4-4795-916C-9206B3E1CAB4}"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005C7A92-75E9-4AF0-815C-9BFFAB0F3E5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7264C55-1324-4005-95CC-4FA0263CD396}"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52B6A7BD-BDD4-44FF-96D6-F6D2673D08CF}"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6C0BADB7-6D7B-456C-A7C7-56317A6207E5}"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051BE553-2509-4DE7-BD44-810DC6FED5FB}"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7D970F05-29F2-4C53-B313-7F3E76D197DD}"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17C31B2B-644A-4567-BDA6-FD2590E9B75B}"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09A55341-A7FE-4580-AEF0-FB92DD963E33}"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48DC3B94-EDAD-407A-A2DC-FF459C694FC2}"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63B5AB0C-B598-4F77-AFCC-371B8DC61F75}"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45E10DEB-3113-4B9F-81EF-76AD7C2695C0}"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9B66A0EB-29AD-4E4F-83FB-60294EF10B8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0C4F8E8F-6673-40BA-95DB-46D879A2233C}"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2C7AD19E-746D-44DD-AD8B-9DED9BEB39BC}"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D4C0C164-5266-4FA5-A742-189093B9F83C}"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D28190F0-FDB6-4F09-8E2A-6D011FD14E5F}"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93266226-B5FE-4D5D-9A3A-CEFF7B7000C0}"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CCF263EA-C7A0-4392-B075-444C141B5F31}"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C36F544A-48EF-4233-9F5E-99DF4EFE1192}"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E6CCC8CF-D62C-41C7-9952-CB89C0F6B0C6}"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A5C30BC9-4349-4B68-8AC6-8361E098F5DB}"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B5F4FD75-597E-4A7D-8D50-1176CCEAD9D2}"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8CA9A9DB-0C40-4DA4-9D1F-EC400317FA2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3588B8C5-241B-49E8-97A0-4EE24D4BA72A}"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9569B546-185B-4AB5-8FDD-1197C5AF2E7F}"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1EFAADBA-FE3D-457A-921F-7710557A51DA}"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B099F10A-6F79-481C-9D79-E827D1115339}"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07A9BB9C-7587-47B0-BB7D-D43DF37F0429}"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ED32B55B-99B0-4962-9455-573E5D8973B9}"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D7A1E25A-852A-4716-9BB8-68F19B044775}"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9908B120-E182-4676-90F4-98F4F9C06FC1}"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9EFABD0F-C94E-4F9E-A825-8F14046C2BB1}"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751905C1-5BD8-4B7A-9403-BD36729EE731}"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7336AF9D-22A5-4657-942C-24C13A70A31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F3FCC223-0747-45CF-957D-F3859026A49C}"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D6BEA3D0-16ED-4F3C-B093-024E6A4E5F5E}"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DAC62D9E-99C8-4198-AE50-EFA3686E3B0E}"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2C8E93F7-92BB-4A8C-A010-B15375C1345D}"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A7A9B9CE-E03C-4A52-B7C6-36FCDC506F31}"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897F2868-F676-4387-8F4C-47595993DE2D}"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F20F67E4-453A-4037-B2B9-20E8C9A35E0E}"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2141603B-F6A9-4FE7-9E87-0D46E1A757B2}"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4C85BFEA-786B-477D-A0F4-9F4E706E4780}"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59BA902E-72B1-4205-B442-0997B1F55BCB}"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8521D8B6-DD6A-48D8-A652-826C50703BB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E38EAB5-99BB-4AC8-9A73-9BE6EFC9E569}"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36B30CC3-D14D-4AA5-AE05-EEADC20154FD}"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0C4BE6D5-7ECF-4F93-85F4-D5AC64EAFF71}"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D4214ABE-DDEF-4ADE-B3E0-EBCAD589257A}"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339F0785-C658-4BC8-9C87-BAFE1989C456}"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6B3B0954-E3A7-41DA-91BA-859345BD845F}"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12C0B67C-66C4-43F5-84E7-5B605BA7C384}"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8A3844DC-144F-4878-9D82-73F36896F3E4}"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7AE90A1C-38AC-45E0-9B32-F088729867E5}"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3E237A2A-2641-4714-BA4C-ABB2C527DAC8}"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6DC4C235-4283-4C45-ABE2-FC67DA9DA4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CE89F23-CEB8-4786-AE0A-6C2C698465A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0A9FC1DB-8570-4039-8798-8827B25806AB}"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52AC07FF-7BE7-43E2-990C-4B838DD72CAE}"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AEB05E71-5542-4A3B-872F-339CD32935BC}"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67D4148D-E617-4891-BA14-EF386BB3CBD4}"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77C2D708-159D-4619-9AA6-780F61352195}"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A556A837-48B1-42E3-AEDB-D7FFCD3733B8}"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A6CE3873-D0B5-4AAF-B623-35F7E19F3C2D}"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4A4879D6-8B3E-40F7-9AD8-D51A2A981926}"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03A495CD-FF48-4C21-BBC8-4C3C19D2CCAA}"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698495A2-C5DE-4F75-BEBB-DABA9159DCA2}"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779EE86B-BD6C-4048-A509-324569AFCC2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EEEC3EAB-E3DB-4DA1-A35A-34A4E78DA351}"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0E1C2AA2-547A-4DF3-9088-DF3A66483787}"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AC6220CF-A69C-47E2-92B0-0A0B8329642C}"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296987F3-8565-431C-B636-A0099E5EB663}"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EF0C7D1F-F2D9-4F98-A83E-61180144FA8D}"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9383CE81-4174-489E-9650-3D801D3C050C}"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3F0A0CD1-FEF0-44C1-9BCA-2155C9A71B28}"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D4D4502A-0068-4B92-BFAA-37988B7B6C26}"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294DF66B-1637-48BE-B636-ADF192A3D536}"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B94F5F09-EE03-4B50-BF57-8D280A4D5D7C}"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44E4A3BE-CADF-4D10-A114-E2606170F66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0AAAF818-40FA-45DD-97A9-9C232C01BBE1}"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ABC06493-1E63-47B5-BCA4-20E86C491BA9}"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F556E53D-EB05-4B82-8192-D61790BFF4ED}"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040912FC-271C-4E3D-BBF2-CF8034BEA83F}"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0689A92B-20BA-442D-A1C5-F5DADDCBAA56}"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476EFC6B-661B-4EF2-AB33-0FCB7FFD5DFB}"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C08138FC-53CE-47E4-AB33-4EC1816C68B1}"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B7B7D73E-D9BA-4284-A387-7689EADEA139}"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548F4D0B-E22B-499B-BF78-DE5C6076BECB}"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B3325786-E5A5-400F-BE1E-12079C9BEEB8}"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32FD2693-86CE-4BA2-B37E-FEB51824911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3EE34FBB-A59E-43A4-8962-1B6B6C8ACB73}"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1BC641B7-9F3B-45D0-91AC-E219A5DD22B8}"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DCC02B58-B282-4B18-97ED-56D514DE70B4}"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1B7B1A86-8208-48A2-9C9A-037292C1C1E1}"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488DD9A2-B254-48DB-9436-A595586996D9}"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4ECE0CAC-FAA5-4528-9AD1-DFE69B58E348}"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DF9B8BE2-D78C-4E08-81C4-4CE7D1995AB0}"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F1BFEE9A-A658-4370-91EB-F04F10888B4B}"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C57464BA-EB2A-42DD-8247-AED62E9FFFE3}"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A14E6C51-41B9-487C-A770-7DFE4CA84092}"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174CB641-F1E9-4335-95AC-96BB7A3866F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5AD3A012-E4F2-4054-A2F9-0329CB124E0B}"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37CF2E9F-61F6-4686-B8A6-F8E513CF989D}"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8BD462EF-3226-4D33-BA09-8A07DE660CC8}"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FBC0C7EE-095B-41FE-A0A7-71FA8267F7EF}"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E1F21D77-ADE9-451B-B089-AC4E8C585715}"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AE44FBA3-6CAC-41C6-9AE1-A8644207BB5D}"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BFF98B8B-F414-4710-A3A2-70625626B3D9}"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AEB6DF46-ACC8-4F91-943F-7FB2181F8786}"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51D39A0A-DC62-40E7-9B6C-233A6AD6C340}"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A7635E7C-1D12-45F3-8581-FAE35CCA3B15}"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BE53C660-0ED2-473A-A01D-5DC7AAA4712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C4C6CB5-0BD7-4DEE-8CF7-6F5C9D7420E5}"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B4F02B16-547A-4E88-8A7F-E0CC9D8A70CE}"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6F374746-802A-4B5E-9ACE-25E892586BF3}"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0999375A-0424-432D-8BB1-7162DEA04F68}"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68A1A65F-4ECF-4E97-9C40-5D05AB9B847C}"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235C199B-4450-4DDA-9FC4-8D8B454BCE98}"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EAC11937-E18F-44BA-A944-6B8D4CB2C29F}"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ECF24088-9215-4EF3-8997-D81B384044C2}"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10C7CA3B-5282-4CC6-A36E-6997AF4F66F9}"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E536EC14-D637-4DB0-B7EC-E428A9957464}"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D52CFC33-6AF8-4746-8889-0DD6C817F7B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FD95A08-DE9C-49E1-9D2B-28EB6A1E6972}"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64F1F69C-E7B9-4757-81F2-2DAB80CCB572}"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40063239-C75D-4F35-9747-226673E9DD9E}"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D2612C62-5F71-4DAB-9B8C-D20F1232DF2D}"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EEDA46B8-AB08-4364-917D-30649CF52001}"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83404625-C8D0-4BAE-9092-435370C5406B}"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0E2844C6-86D5-43A8-AAC5-8EDAD2F44D70}"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EA0E334C-A971-4F10-A317-22D135688281}"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BEE799D9-E496-4C4C-B7A7-3C84FBE0EA1C}"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84C7DE02-8134-4A51-97F1-B411C59970E2}"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30F2A055-D555-49E4-AB47-21DBA0C0A6F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2A3CA60-5EB8-42BC-B324-06B3A9AF41A3}"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4F3360B8-FEFC-4306-9593-1F71359C9CA1}"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48620F26-D178-4199-A1ED-5A68DE136A1E}"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107B075A-1B9D-42FF-B9FE-5CB99124CD28}"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3D481FF3-B3AC-4F5E-A44F-931FF8CFC4C2}"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A589FEE3-34C8-4404-97A6-17FC9087D927}"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225AE282-C0E0-4A3E-A1A6-530F334AAEFB}"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F2F9202D-7524-46B5-B6FC-7181E11BAFC4}"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5EE6083E-9F5C-4FDB-B7B1-C4A19DBB03DA}"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377737DF-93D1-4A93-ACD5-B5ED4B7A6A35}"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80049FC8-F299-449B-BA23-68E8DF757DC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A741534B-135B-4F65-9FC0-B49EE2E386DF}"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30194ED0-CA02-4CCF-BD4A-C61340A89073}"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825855D0-1CF6-430D-93AE-C7F4A69A67AC}"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0449EC9F-6BC5-4581-8E7A-DD67DAD1B811}"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FDB0EDE1-D820-45A3-A5FD-8A035A797FCD}"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29784204-0D4B-464A-A12F-843849C514B6}"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AC050C39-ECF2-4F39-B05C-11A1A96131A5}"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36C4B6FC-5C0C-4987-81B1-482CCD5711E6}"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7689DD64-1C6B-4C66-894C-F8DE31DBB7A1}"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83947DC1-88F5-4246-804A-E676D9D2292D}"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8916B754-1DAC-48DB-A391-34990E4B220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B2AA85DF-6B9A-4076-9C02-E9D56D352C07}"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6F841EA6-10AD-4F0A-81D0-FA4C0E0A90B4}"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C21EB0E7-E00D-44C0-8AED-4BFFA5705B83}"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945A3D11-1B5E-451A-8BC0-1383BD12010B}"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B32467E9-9907-48A7-BE2D-6820F076BA71}"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82771CB9-B779-4316-987F-EFB3C69C6353}"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4919A4AD-47AC-48B3-B105-3900F6F79D17}"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E33AD001-9867-45D5-9E43-BB01D56386AC}"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8C8580CA-9DB9-4927-BE5E-72FCCE7FA55F}"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5D5F1299-41BD-40F5-810E-D683C072F921}"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BF34EF4E-9E79-4147-8AA5-4C083610D6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638A7BBC-4015-4E0B-9A2B-773089C5686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9BE0C273-0DC9-4778-B5FE-DEB0CA1413D4}"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00126204-B3CA-4BCF-8BC4-D6FA9F1C7749}"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383AFCE0-A38F-4B6A-8AA9-30F44A8C65C9}"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FE8C1862-739C-4BC6-A16A-F0F3C114EE22}"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5337E03F-38CF-41CF-8B0D-62BEEE48F65C}"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F7B805A9-F523-49CF-989F-40AA605A3D5C}"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329A8A10-CF80-4F90-9E04-65C4732D2D74}"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88CA1270-AE4C-46C2-A656-89FA708065CB}"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AAE1166A-02FF-4FC0-98E6-029763A782EE}"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DDFE31A3-AB26-4FED-8E42-10340D1EC3CB}"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E0552112-61B7-4E25-8DF2-C197BF0FB79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E1E4799-9927-46CE-AD15-4E7784D7789F}"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1AE11D6B-ACA1-4939-91FE-40735E38E221}"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1FB634BC-C332-4675-8649-B1670AFA6978}"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0DA117E2-3300-4145-B4FC-453F389D434E}"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7484D061-6DAD-46C4-A7FC-490D95D64769}"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A6DA3A4D-8CF7-42FA-A945-BEFE645206B0}"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474B503A-357F-4934-A4A3-67FAA44E1FA5}"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09E3629E-98F3-4F1C-B5B0-CFF4344D64A5}"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B54322E9-6EED-4939-BC02-24FE40B2EDEF}"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D42781EB-06FD-4912-915A-001455D46F66}"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EC3809FB-48CB-4595-B06D-BDB02E730FD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564F244-FF56-40DE-A6D1-A2FA37A92A90}"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B054F4FE-791E-467E-82F0-196324F77961}"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B5C62662-E00A-4CD6-B769-147873F06BC2}"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F01385C6-45B7-4C25-ACF7-C36838AB35DF}"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57E54030-CBE8-422D-AFBC-35DE8912D9F5}"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D7B07670-5BD9-440C-ABF1-F7F7AA457B34}"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E83CADD8-CF44-44C1-BC3C-066D0174DA0B}"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509DF619-1D65-4DB8-9C6F-73A048067F85}"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ED1CDE3E-946B-4A50-9B3C-210D89B58D82}"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5F7A0B27-7010-4831-968E-3A2BE55EE961}"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A727DABA-4F28-4172-9102-B4FDEF15B0E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DF0A47D-D994-452F-BDCF-904CE2A5FA77}"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B55832CF-CC67-4882-A0C9-F5AAC4EBFE28}"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8DF5AA5A-2AB5-444F-AC54-6006FEAB2DD2}"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F184E4EF-8A02-4ABC-A23B-DF709B3551DB}"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437C762B-C65D-4400-82CC-D3E5293F8C4A}"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70A6CF06-3777-47DB-BFD8-BC2FB83B83BA}"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8B6826E9-9D60-46E0-9819-790280959446}"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375237D0-D320-4E8A-BC5F-FD3675A646B6}"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3BB11D91-DD42-48AB-ADEF-FB973D352155}"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D0DF1D89-1B37-4126-A518-819D6F7013F5}"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02A0C6DA-C547-4B70-91F5-ADC21FCCB51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E69516B7-673F-4302-9078-1F57F5A414F5}"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28CF00C2-FF7A-405C-9BC5-D6A7C2C0B2F2}"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87CD3353-F611-4A0E-9CE5-17F5E25E6F84}"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40EA7F2D-F48B-4C09-B01D-EE298B3C889C}"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F764B4D9-B4C1-45B4-9737-54CB5BA006E9}"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F17AD5B4-BF68-45CF-B013-EB8C71318548}"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7BC29024-12D8-4715-B55E-A4014371B12B}"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AF8EB7B7-8934-468B-8059-D5E14B97EA10}"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38433ECE-F764-44C3-BE31-4B5B23764F95}"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AF24DB01-5E0D-4C78-951A-5065813271D7}"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B010B805-B689-4F18-8B33-9DE50413B35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C9325FDA-3BBB-4AE8-9058-C8E6AA95587A}"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7EE3AEE6-6D71-4B52-81FE-F8FC53E3B0E8}"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09A9552E-DEA4-4373-9FB3-DB28A79D2002}"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4A658674-4A0C-461C-8473-CE76BDBB19CB}"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BED1D295-098E-439B-89D0-4BE9240596BC}"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CC713803-581C-4991-B8CB-5C82D7AEB1C6}"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7C8AADA5-AB79-4799-B48B-29230EF21F2C}"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A1B83734-7A15-40C2-875B-F72552E42C7D}"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779C0F25-21A2-4414-AB21-F6CEAC5D00F3}"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88E5B375-FE53-4C25-9E68-E7035F9B06CC}"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C6AFD2DD-C62A-441B-80E3-906550D8998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3A5FD181-6999-4299-883C-BE46FA175266}"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CF9010F4-6869-46B0-935A-00E6451707F2}"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2492170C-94E2-4BAB-A749-7E085771A6CC}"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6E69C79C-E338-4E72-BB95-DE58439CCF94}"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F864E913-9CA6-42FB-8A6F-7EA12016FB6E}"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01CE9E0E-0078-4892-951A-048DAF51921D}"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21E51B68-FEF3-4602-B73E-7196312594D2}"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6581849D-31F7-454E-9CA6-D9215EC09351}"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22B3DBA1-A834-44E9-B0CC-D6342D9B959B}"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68540723-F307-4DF3-B94A-7D4DD2991B9B}"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740BD140-4E82-46A3-AE6F-6435E21F7F1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4603C8D-B9B2-4BC1-A03C-7D3CFC906911}"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61CA75A3-0ACB-45EF-A9CA-8B540DDA9E65}"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978E1D36-93DD-4C6D-9030-0C1E310CB8E8}"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F7536365-1116-4D01-9E74-D5E98C3F44CD}"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7F33FF29-74A2-4B4C-8508-9A27DEB7D255}"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098C1838-EFE2-441F-8443-877799B6574F}"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7DAECEAE-A91C-4D81-B869-9A72B60F0901}"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748F5F75-64E9-4AA7-88C2-AEE46A21323C}"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5F0DBDFF-F09F-45AE-BA2E-52BA7FD790DD}"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51C6B9A2-70FF-4BB6-99DC-1989905A8361}"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C111B4FA-96BC-4FE8-A050-40F1049994F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BAFC2CF-27AA-41B2-A56F-585171EF38C4}"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F632BFAD-DBD5-4869-8E89-33AEEB2F6ADB}"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F8E1A511-673B-4D87-87BA-6AFF898DC783}"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95AD69B8-33A2-4F74-B81D-3C1D8AD451DF}"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849D968C-71E2-480F-A3A3-E3B66DE5EF45}"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0A4911BA-D50B-4641-9574-2C047DF43DC2}"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AA9BA5E0-81C8-4C29-A8B7-38C050627ECD}"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706190F8-5032-4C63-8FB7-76DFE088B8F6}"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D634A271-CC29-4FF1-99FD-6E70E5713C13}"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7BAAD22A-E7D7-48A1-804E-EAEA7F75DC5F}"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5ADA0B06-01CF-4C0C-AD08-E9F0EC699BC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752E2A1-0922-4B76-BC67-FDFA756DE5C6}"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9E73CBE7-1B52-40FA-B225-50EF2A73876F}"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21500E1D-0E90-434D-B137-C7752AB09624}"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6D26F30C-F488-4920-BBFC-77A822F2E717}"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F3F42F00-941E-468A-BF7E-865DB7A752C6}"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7BAD3F58-B0AB-4CCF-9712-44C6D22D08D1}"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BC4A696C-B1B5-46B8-B83F-DBB575F40566}"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7A458298-F742-4142-9E0C-980133AA48BF}"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9537EB8D-E9F9-44F2-A125-EA0CBFB718B1}"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0499BAEA-5495-4CE2-B376-ED87A61ACACC}"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23C7479D-9C47-4026-8112-15B673083B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E6BB2BE-1850-4FAC-B191-2BDDE4BCAE4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0D2123C1-96C3-4DD6-BE5D-B6C2FC11D576}"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F918EAD8-0DD6-4606-AB78-CBF9D6D1B0B9}"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2190448E-A5F4-4834-A356-085693CAAD14}"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8BF73B60-CC09-474B-9C08-ACE574BA70FA}"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5504D6C4-5E4F-47D0-81A1-BCF0DD7884EE}"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CC5D8210-5480-44EA-824C-B96779759171}"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C0261B9F-7CB4-4ED2-9184-48B225412BF9}"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86C1C6E9-E3D2-466B-A222-1FCE6A3DBB92}"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5DF7713F-8024-4AA1-8B58-4BDAF7437EF0}"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4B61A105-1B6E-43FD-A1F8-DC4A56E44E99}"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73945C27-F30E-4664-8636-EB86E9BDB8F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73D09BF4-AD47-4210-A857-98C26AE71B87}"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4930FA0A-0DC5-47AB-9670-714F9B80B857}"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B9C36340-FF0F-4E78-8925-F9863B993EA8}"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F8BC8957-8368-4E0F-B4A6-A75EBB196EB2}"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B0396526-3C1B-4022-B839-2ECE21F4C353}"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DC842242-0D3D-4EB9-A868-F8C08CEF7874}"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AD2677F1-67BA-4FF4-B1DB-9BB50DA49552}"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36760229-6DB1-4404-B6BF-B64DC1BAA662}"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2CC17453-36F8-48EE-A381-125803F60918}"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9A2F0086-8BFA-4931-A6B9-121E6240E51E}"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32320B83-4D4E-4FDA-AD4C-51069EB3730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43D194B5-7345-4B18-A40C-0920F509AC09}"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A449D4F2-002A-4167-A2B2-BB90B47F1C56}"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19A1A3FB-29E8-4C47-8034-C568CA038F8D}"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5D0B4B67-4C95-4DC0-8414-0F55837C85BD}"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7E4CF0C9-079C-4E5D-BB21-AFC193B71620}"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89B305E9-9484-462E-A574-8185496D18FB}"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8F0DACE3-AEF5-412E-9EEC-2F3ECC5DBE57}"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CA78FFB2-8A4D-4343-BFEB-210174AC20CD}"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736D672C-F3F3-4FA9-80C9-DBD657631C26}"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302405C0-B2A6-42F0-8D61-0F1F852442AB}"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7A6F0496-E613-4088-B8B9-5E63DEDC11C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F49C9C6-BE5C-451B-B7F7-E75911E9758E}"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B30C8C16-6C88-4A9F-8E4D-95125CC6A6D2}"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6A5339BE-8548-43A3-8E27-1DB71567527E}"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20BC79DF-4CB5-4294-AF8A-8E1B56F33A26}"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1AB45AAD-B34D-4138-85E6-E2C768920DC6}"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50DBE530-26D5-41A6-92A1-B5A10CF9E047}"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C1C0F561-BCF0-4A66-9427-7B80367A499D}"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52E98ECD-5C3A-4E6A-BAEA-3B76C9A0F841}"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212876B8-A71B-414D-8D63-FE3F2E8FB49A}"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FC4CE4AE-72B5-494B-BAB3-C4F255F99D18}"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5DC7D2D6-223F-444D-A925-F750CEC714E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A18DE48C-80AB-41F0-B0A2-2D2AFAF1C412}"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C2015405-92F1-4452-9524-A43109E8289F}"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1BDDB398-74B3-415A-A91C-367CBB7BE597}"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555E2F32-8768-4FA7-AAC3-577B571E103B}"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CC97F10C-8350-4B9B-8259-4690479D18F1}"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75851300-6F20-400D-89A4-971400E6B0DA}"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623B0B20-1ADC-494C-903A-D3A1E3F3E0F4}"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762BFDD2-21ED-46AE-97AE-06171F82147E}"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A465D462-4590-4AD2-906E-00270D25D81F}"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E4BF79B6-A73C-47D7-A354-0CF61735B0A9}"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D4A5DABA-0C3A-4899-8E2E-BC7C4EB1D94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D0057DC5-17AE-4D29-AF20-C503BE82FBAE}"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E4F5866F-97B6-4C74-B47B-C61117CC8632}"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D7622CBA-27FD-4602-8515-D60622A75BC4}"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597A1952-186E-4200-BC66-8AC77569BE1F}"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6E314338-0099-4A47-B0AC-B9F59F60FED8}"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CC2A94BB-02AA-4FF9-9A91-43B4BAF05402}"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4C5456ED-AE59-4D35-A21E-C3827E76FE66}"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C03DC27D-055E-4E59-A92A-B9A951AE4120}"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43CB3F47-B34D-4CFC-8895-A74434D4FE2E}"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F12E274A-835B-42FC-BD12-40D7FC02F455}"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7CE627AB-2B74-4978-B9F5-BA5D741F015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D11F789B-0CF3-495D-BDBC-384CE1143ECF}"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E8F8862B-01FA-4649-9450-CEBF29F9026E}"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A144C91B-22B1-4FCF-BF7C-376B11D1B3DF}"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2977D36C-C89A-4241-824A-0ABD47079A0D}"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FA5D39D4-36DF-434F-A757-C15936B23257}"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51BA90FD-2C3B-4CAC-961B-C417660A6814}"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4AA21704-EF68-47B5-9B8A-41FFA5719FF1}"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8ED62D59-C89E-4214-A953-0A9C2FF5B9E4}"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523B54BD-4A35-4E31-833A-33E129E7B9BE}"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563285F1-2D83-4C4F-BC21-62E37DE8CBCA}"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571991B1-E4BF-4EB4-9BAF-11D7FDE317D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65DA611C-CE3A-48BF-8680-24E227110D95}"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A51A2901-8CA2-4ADB-A842-9B36EC557E2E}"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3EC07833-F787-4838-A630-285F3394607D}"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32F9CDDF-D180-4D0F-B0B8-4B72C3F42BC2}"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E357797A-3C30-4A10-B64C-29D3FEE33CE5}"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37153C50-322A-4560-A4B8-231F7A950629}"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2152416F-2306-4D46-AF2F-7CFD83F280D2}"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4230AC9E-1B38-4438-B2B6-C455FB4A05BE}"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DB0A3860-D55A-4B57-A9F7-EE1FC67F1701}"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34F1C23D-A659-4217-9E3A-F34B171C54FC}"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494DB231-6E04-4891-99D1-01D55536576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F7C9045E-98A3-4E30-9050-EDBBA9359A3F}"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035EF2E1-C025-4793-8DDA-9DEC5EA531F4}"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043C8448-FD77-478B-A40D-91C2E626F880}"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0678FCB9-83EC-4385-BF2C-DB236B21F9C7}"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532D9261-61B8-404E-9ABC-8F1A5360AA8A}"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807F3EDD-CF3A-4274-ADDB-DFEB42152DB6}"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6E42180B-4ADB-439F-8502-AE915C506D12}"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2FA71385-4232-488E-B33C-1B6AEA5649D2}"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35B73962-4776-435E-985B-929BF936FFDF}"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3F55977D-7DCA-45AD-8FEC-36B73FE29FAC}"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CAFCC6D6-797D-4832-8A52-AAEF0DAD5D7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32ECBAA-38FA-41BB-8AD7-E4AE9B23E020}"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306D411B-08A4-43C7-BC02-8D977FFDBEC9}"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E63D447A-3B66-4BC3-8E75-6692DEE79E67}"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91E358AE-7AFF-4973-AEAA-0931409BE859}"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99C559DA-B5F4-4227-82F3-F1D93F62BABA}"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5F64AFE1-E9CF-4470-A1EE-63035D8576DC}"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F31421C6-646B-42D2-A08E-094467944DEC}"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40B16BD1-CA22-4FA2-8FA7-BFBEBC0B7DA6}"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AEEE26CF-D8A1-4428-B763-396D091C4249}"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05F72BBB-3157-4A0E-9AAF-D00D59383FA9}"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EB8CCC83-C977-4DA9-91D4-BF3E6F4D1D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0DBD25F-548E-471C-A0C5-DA5F05D9D94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5A51F5E-4799-4601-8DC1-602EA1C69B09}"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6CA240B3-58EE-4279-9A4D-8438E47C33A7}"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1C1DFDA5-DB02-45F8-BD57-E25A5ED577BD}"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674778F8-A166-4A82-B6E6-8807CA5925F3}"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4D27F593-95DC-4987-A7AC-E79B69E6AB10}"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6A67736E-61C2-49F6-8EB4-D2FCE2DB8C68}"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528E150F-185B-4033-BD68-D67D1B8EF1E0}"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100F4C0E-43EE-4544-A612-85DB59FB5A06}"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4C3EF1D1-209D-4399-BDE3-BA0AA83C55C3}"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C08ECFE1-DC9A-448B-84FE-9CA9EB65447D}"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CD861C41-A413-4427-9096-66741B68B68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712E623-BE7B-4AEC-AC87-6A30D438447C}"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2A8A1EDE-F7BA-4999-BCB6-544C2709D45C}"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4EE7261B-03AA-4A18-86FF-EC437A9EC056}"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E84E557E-A861-44D1-8DD7-13ADE7054F7E}"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33E38C8F-5EBB-4422-8AF8-3F96F4410237}"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42CF8F2B-E85E-4698-AD24-A43BDEE07967}"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9CAE0E81-36A8-4B3C-9516-E0480999FC68}"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945EB5EF-35B1-4037-97B0-D60057A71CD5}"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992C11B5-3DFE-49BB-B3F0-B076761A1B1D}"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1107EF3E-035A-4A00-8E6E-3E4B32AD9EC2}"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EAE8D02D-7331-49B9-BD09-F6FD1DB8845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437F117D-E05F-425D-B1FB-9DB1AEF7C78B}"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E3665ACF-D93A-4870-84AA-8642CE269871}"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FC05E2A4-426E-4902-86A6-2F1432BEECFE}"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1CF8CF0A-BB8D-42B1-9FA5-59FCF9CEF0A8}"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A2FAACD8-7F5D-4367-BE2B-E0B2EC7D4646}"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8661019C-151C-4ABB-AD11-1399A268B37E}"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D853D745-7F49-4E66-94A7-88C1C50137B2}"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7E06727B-E80F-46AE-9A95-6D75962BCAA0}"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807EE408-6B62-4AD1-8FC7-BB40B645C689}"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ECC9770B-689B-4ACB-9098-454EADEA2451}"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AA6EADFF-F445-4844-8C54-A060752C4C8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B79A1C33-9B2B-4061-9D09-2B47CE2636A6}"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46D236BB-A048-4C4F-9E1E-9CD47ED3C21E}"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D70E4DFD-B929-43D6-984C-8ADE1605536C}"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887CD071-8AC3-4EFD-A067-89783D1406CA}"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F3DAAA53-E143-4BC3-82AC-09E1BEFA9D8B}"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C3468D64-0C9B-4E01-BC55-03B3797EE020}"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AC04F36C-B6FA-4A5A-942C-7154A88EB0AB}"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63F475FD-5CCC-4BE8-B51D-EF18AF7156A3}"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AB86C586-EC84-4647-A030-DB856A11E939}"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3C02F31D-91C1-44A9-9C87-59D1BB88F89A}"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886BE9F1-F1E6-486A-9D29-FF18E274DEF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E46C3719-9D62-41D2-8AC1-A79CED98D943}"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AEA53DA7-109E-4EF6-8705-81343602F490}"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0EDFA68B-281B-4242-B735-F5F6F2226FBC}"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BCA33838-34E4-495E-8C8B-1F13B7479FAA}"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83CC4507-93F6-4A49-AF2C-D291763B8AB5}"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ABF49211-7195-473B-98D7-4B728CDD5442}"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9B9DEEAE-05FD-465C-B49F-64B2737B8697}"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225C5949-9D40-4002-99EA-472EF6B9C91D}"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72BD64DA-B673-4670-B7AB-E8C92E31AAE0}"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47C344C5-8974-48F7-984D-EE86100E6EB1}"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539DEACE-6BF2-4D02-B478-8C289199493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79BA56F-8B64-4BD9-9A45-8E37248E7600}"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99DA34B4-6553-453D-9393-F02A386EED58}"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ED2AD418-EEFB-4A8A-B84E-D50464012674}"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C0A2D9A7-783C-4292-85D6-4E606FF7CB80}"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2FE278A3-0390-45BF-B496-0B913EA40C1F}"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467ABC4C-5879-4E8E-9AF2-0DC9ACC782E1}"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F87A0088-E9F3-46F4-B339-A9D0DF0649E2}"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2FB9072F-8AE5-43DF-88E4-516E1DAB8B33}"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615C2942-EA67-493B-AC3D-2165315564BA}"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5D69D16B-732F-4A42-9F0B-0A4FCCDF595E}"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3C819C29-4BA7-4DA9-AC47-2B40D538B2C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5C8116A2-4F7D-4DF7-8D44-A392B64B45A2}"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DCA513B5-E8A4-4AF0-A7FA-52AEB840B77C}"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2A8992C2-34D3-4562-8804-C35F31CDF6F7}"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29684896-3810-4053-9394-7FA903BE6A03}"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DE503F3E-406E-428D-9352-61DCD1D137A8}"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DEAB19BA-08D3-4F6E-81CD-16AF09716CA6}"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3BEFB1FD-01A5-4B96-B896-375BED3454EE}"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D9BD3315-5B8B-4499-87A5-EDE352BC9B3C}"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8B71F582-7D72-40C5-8E02-75E9DE9097EA}"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665493D4-7EBF-4E00-AC23-F91E7A5A900E}"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C52B3F9B-7FAB-4AAA-B5A5-60992282C52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B2357B72-4A73-4940-85F4-56369F859BB8}"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8CF4F372-261C-4976-900F-26C89BF64E55}"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81220C8F-0982-4E48-A38B-C23A96276FDD}"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9A7F4C0E-23C8-4E6D-AA53-42F115F0DF4A}"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30B5A17F-2EDB-411F-8CC6-F29B1BB729BA}"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C3E2F3A5-0399-4097-8BE1-9D5733029809}"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59E45A33-4608-49F2-B133-40AB71E29EA0}"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EC1E1975-9DC7-4267-96AE-51AE8A342B5B}"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7C6AECD3-A3F6-4D5E-A07B-3ACFE042679E}"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190438CA-33F9-458B-9231-E79B3DF94D80}"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F6689A56-1851-40F5-9DF3-F34811C8E97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4F081BAC-84E2-4C2E-9CE0-07905EBF1833}"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63A4CB29-2285-4DE1-84ED-63938B54FE3B}"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A97CFC72-BBE4-4252-8EAD-CCE84F7FCE6F}"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98BB27E8-0C87-437D-BB3D-7DC534D4DCD1}"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FBD20AD5-4A34-45B7-9707-1B7CB175AFDB}"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EE72A5D0-39BB-42BA-9B8B-492660FD5940}"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376D727D-233C-41C5-AD22-177F2C13E2CC}"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FC115335-B30E-417E-9183-329FF3488CDC}"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186ACDE8-7803-4F24-94F7-964A5627D5A2}"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F751C7DE-9A48-4919-BBBB-6E6F72EEF270}"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D3DBDB71-A5CE-4E06-BFE2-4B78067FE51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63A7B8B8-F931-4ACA-8A7B-A0DBB38DC3A9}"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613E4786-8C96-46A9-8FB3-62CA7421A64A}"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2A3102CA-730E-4501-BF4E-F5ED9983CCA1}"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7AA466E9-7196-48B0-957E-A3308B9121E3}"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523F6F98-8A00-4CA8-9395-883F4E583D90}"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AB6183BA-1065-4C01-AF9F-5F2EDB78C85F}"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FB073482-6F9D-44C3-865F-21C247447645}"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8998AC6E-922E-40B7-9251-9F4B273BE30E}"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1FA3B59E-11A2-443E-AE04-A4150C3889D7}"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5410D678-D55D-4E99-8C3B-31231A713846}"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F37A451C-34F8-4CA9-A824-CDC69C3421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D11C5FF-F175-42EE-9586-3E3B26C8D69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214EC415-7369-43AE-89EF-FE46A7056DCD}"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F401A7E8-C360-4762-800B-C8BB5183B917}"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96F06F75-84D4-4D4E-9856-5E0E2C8FEEBF}"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48009466-B30D-4723-9037-CBF0F8563F89}"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A0C9723F-CA07-41C2-AFC6-BF209EA7658B}"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33267B84-4097-40D4-AB87-EF26BF9B4AB5}"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BA490635-452C-4436-BACC-205D4F29942B}"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55F70E2A-9DBD-433E-9528-0C3453F889CA}"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49D87C98-7EB6-407A-94A4-E1FC7F422CD2}"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A4514215-FF39-4162-A9FC-5B7FD59E8DB4}"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353CD550-DAD9-4D96-A69B-B79708AC9D1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A58F9423-A5E9-473A-A456-A8014BEC68FC}"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003384B2-9B3B-4CDB-9603-6C63D8F7C2BB}"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74B7A23A-EA1F-430B-9E42-6BBC972A8E1B}"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7E017935-048F-43A2-B3E8-C730D7BC1D54}"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E5589549-1FC4-423F-B316-31DDACB8B4EB}"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14DEAEB2-4408-41FB-95DF-B141932A652D}"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0CC01034-1185-4C92-80DF-5C9F267DA857}"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74838D63-03F8-41AC-AB87-268349BDC470}"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2238E26A-BDBD-4D64-92AC-3DBCC99D6D97}"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DD423B2D-9E36-4327-AC27-AE147D020232}"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88B91A8F-8F8E-47FE-9ECD-C16D1AF8475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4A71D14-F28A-41F4-BBCB-44473C0686DB}"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F7782CEA-4E2D-4B49-91F9-133EB17EDF36}"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13D0DF7B-EA57-4FA1-AF1A-D48B88B5BC5D}"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F63055A3-5511-429E-90FB-32181FA1F5BA}"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D238D79A-C202-4D98-AB08-58EEB3BCC94D}"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74486F84-FB24-4A9F-9F61-144B8C4BB65D}"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10DA0978-2C34-4744-8B60-021DC3900508}"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69F0B5B0-9823-467A-9C6E-FDB83A198266}"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B51CBA72-4241-4AD3-A67B-7303189E418A}"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8F8D9D0E-905F-482D-9846-B6E571876A73}"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BC8758A4-CA25-4265-B64F-AB4859A7154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FB33B71-C908-439B-BCFF-95FF5E13C0CD}"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A07EF640-12A0-4E40-A9B8-CE09758AEC42}"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86F0AAED-E047-43F7-B6AB-A1C775F39143}"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61700907-1733-40A6-BFEC-8F98E189C0D4}"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45AC1610-C86C-4213-87DE-65ACE0BFE98D}"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CAFB4489-B5EB-484F-966C-86D9369A60A7}"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2A28EBBE-6481-47C9-B26B-9B89181FCA4E}"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7680CC4E-F2F3-4971-B570-8404DDD933B9}"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76DA14CF-C4E5-40CB-8C77-71ACD43EBA52}"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6D9F60AC-4965-46C4-B21E-36723A3B2AC4}"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BAD3C677-12C9-4A26-B1AA-7430EB8B5D2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46168242-598D-4BDB-AB5F-91FF9BEC99FB}"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B973B05E-A8A8-4404-83B2-2DE69518FACD}"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68B0EE6E-69D8-46FA-A9F8-65EA78205C47}"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7A40EFF2-49E7-4554-89F4-67266780E2EE}"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1BA1A996-10C7-4144-AB5E-F50287AD71F2}"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C8430EE2-C895-4B79-A853-1FD41F98DB39}"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3DB504DF-9407-46CD-A33A-BA2A631265D4}"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680EF4DC-61E2-4CD4-B0B1-A207034A4614}"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F9110F64-8F9B-43D4-BC8D-F0CA71554B38}"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461E0317-B65F-4080-9CAC-04D708010548}"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04869C01-05D3-49CA-A1AD-E32FAA31FE8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81FBF20E-2448-4CEF-A588-0F1A857BCA7A}"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20692381-7199-46FB-944B-AFF8DACD400C}"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10CDCF25-AF92-4617-BC97-469CFB6C2EB1}"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7F866427-7A07-4336-B5F5-B64E7F94429E}"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6A5895AD-6C2D-4C95-8E96-00FD06F20FDE}"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51783A68-5411-48D7-B877-0F992174195D}"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3CDA2F12-66CA-44B3-99C0-CB43F59FD455}"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AEC7338B-0C69-4D5B-8ABA-C7A33A805D46}"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0F771141-F4E6-41B5-907C-33A9499541B9}"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577CD482-12CA-4444-B3D5-FE5E1A8F70C9}"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258346ED-C10B-4352-96B0-AB11C9324C1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5A50094B-FC65-4E91-A9EC-3A0D09D8732C}"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C43E86C8-C393-41CE-8A00-CC6138F1E4D2}"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B7933D92-A512-4A83-A02C-637B5BA05F22}"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163B4658-14B3-41DA-A998-B10A4B421E2A}"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0F456355-BA1F-4F97-9D1F-2C95D5ABCC3F}"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1C089DEC-01DB-4CD4-B9AB-1358959413CB}"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88814F71-4D4A-4B36-826B-E5388F5D1EEB}"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7BC6672C-C56B-4DC0-A139-88723790B545}"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0D5C8918-E8AE-47B5-A23A-608E51003F7B}"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770FAAD9-7B1E-4513-9C23-F749E6445E5A}"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4E489A17-0104-4964-8E44-6D700EC7109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796BF0E-8863-4F87-B607-408D617E3C59}"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8C66055A-1414-4A0B-B6E4-C8F0040333B9}"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811E836B-6208-4C56-88A0-E260C91CD675}"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9B2C7C98-AA91-42C2-A4E8-6BFC48FA0D27}"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DBF5F193-7AE2-400D-B92B-256FF765C982}"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61631C44-7468-466F-AA50-B2D5A71A3AFA}"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CE412F73-0538-4942-BFB7-89ED3661A826}"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625DEC14-1046-4603-94F5-ADCEFF989FA9}"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11F52DD5-337D-497F-8900-9D5111971C37}"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40189565-9287-411E-A22B-F66331E47323}"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4BDE1A95-F816-4BEF-B94A-C65B227BD7D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90140FD2-B1B0-498B-B1AF-C54767B5EE14}"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DE0BA27D-9C45-4D97-9A7B-CCBA7476B0AE}"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C58D62A6-7110-495E-A77A-A18CAB7454D5}"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A51F695E-FCEE-4E48-9848-3A3610A03012}"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4566D547-C924-4962-BBDC-D98CED587B3A}"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B6813F81-FBCC-46B4-AD35-9663DE4EFAEA}"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B4FECA56-FB8E-447D-B373-B5DF8B26467B}"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923656F2-DCC4-40A3-BF46-269C95885326}"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BBD61160-2AFB-49C7-B9A4-EB7D6500EBEA}"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E97C84ED-222E-4DDD-B5B8-D07F2875ACFB}"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1A9AEF80-872A-4774-988C-CCBA42C529F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21A892C9-E7F3-48A4-90F3-A66FF1065FEF}"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AAE632BC-3A17-4BAC-B174-607CEC18CB07}"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F77C5015-AF13-459F-A0B6-622A8C991B29}"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511A7223-7288-488D-AEC6-F9CE81601F6D}"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D0A43882-1135-437A-A323-62D33BDD980A}"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A941DFB9-F096-4E07-A594-68CFA0540410}"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046B7B0B-81B7-41F8-90A4-5DD900A8B52A}"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0635499F-83CB-4CD8-B486-727E6FD569C2}"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F2DE4BD5-EE09-4B95-BE4D-312783B70A08}"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217CBC0D-74BB-4102-A3AC-4E136691F76A}"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7BCFA158-616D-451F-8AA3-4D6E6179AB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BCF04D-C789-4D5E-8F04-AD7913E666D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CD1DA8-C954-47F8-B9E2-1CB8045FC13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FF60C4-817C-45BB-90F5-E239F2EEC22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A19D3D-7F60-4CAB-80A6-D7D8C7AB6B7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9FBD33-257E-4CB9-BF83-924AFF6DAEB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16587E-46F8-4F10-83E2-69A084B6713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0C445F-2F8A-45F5-9D62-022EB92F040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273386-7B0F-42E1-928E-DB3CF186276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39FA55-4FC6-4901-8605-3586B3BBAB5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7342C9-459D-4135-9A9B-8603E02E087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C12353-F60B-40CF-A293-26C9025DC41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5FEC99-0F5B-44B3-BA0D-E9B2718B99A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5BECF6-5D32-43A2-AAFB-DEDDDBD4713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D960D0-ABD7-40C3-A597-1BDD173AA8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BE0B4D-2528-40EF-8560-54D2EDD3AD9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054BEA-4017-4881-B9EE-C75B298BC53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7FE96A-64F1-48B6-801C-1E6CAFD0A0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7A0571-F887-427A-9841-3F05A2AFD61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982B82-4F03-4024-8B49-DA17B8A8016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F70E63-7A7B-4070-9713-BB2C70B0CC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D0BAE1-0984-4208-9E8B-9049F03591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0EC64F-0507-4D1A-97A8-BCB0D348C18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CD23E3-3818-49A1-8A29-3E28E1DAF35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B86C03-3AB5-43A5-BA81-BE16FD72695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5F314B-32B4-494A-BB7B-2D6FA3C917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BF077E-9738-4A06-834F-140B09F1B51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AECE64-95F4-47DD-8A16-AA085728F43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7E5B1D-34FE-4BB6-9508-36DB5D881E0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52B300-1267-419E-8B95-4C1CBD66F55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6DE02E-D551-4519-B284-2D3D2F67B90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9AE3D9-D9D8-4821-A73F-CE186A21026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DB0038-D2E8-41C0-8E19-14582C1BC59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9B530C-FBA5-49AE-9A7B-F0C0BCA717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831E14-9750-405A-9542-CD8CF47E3AA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0CC7BB-B568-43D7-8D35-BF9D4F78496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1C8A0C-EBEC-4D05-8E42-3BCF34D9F2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B4EF1E-25FB-4516-BA46-F4F98C69E28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FF59CD-3930-4C88-B580-25373C3DBB8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5A532B-C15F-45BE-B666-D6E983A6E6D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AFC301-EA6D-4339-AF6E-0A3C5AE5043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943A82-BA9F-425D-AAD2-F7A326F68D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E5CE9A-AB5F-408C-B376-8C5925204E4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7872E4-637E-48AD-9B93-3B393CB2F2E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5B367F-4D90-42A4-BA5A-3AF2FFA71D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D2F29F-CE08-41E5-A0EE-C9E224C622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A5FA4F-0848-4A6C-B4B3-265EDA70F80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9B2B6A-CA74-426C-959A-E86D9B53BA9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41F410-4D1C-427B-BC5D-577F0CB39C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FBA6AF-44B0-4AE9-93D2-921025C2FB6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E3F3E9-C842-4019-BDF1-3FDEA334ED2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7EAD62-28DE-43DE-8CEF-35A25F90F9D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2F7082-1E2D-4BCB-B09C-50A835F68B9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4FDC58-14C0-4F9D-A476-301FDBEAE40E}"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B621A1-84F0-4DC5-9823-71AEF35DBF4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1C7DC5-3775-4088-977C-105FE99C0C6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408F7A-5CB8-44DF-A862-0AD9EA59B07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9E8443-962A-45DC-B3FA-7E2BF0C271D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46CEB5-A095-4BF8-A301-035522BE958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A6DEA8-8687-4C32-80D0-7D6896C38C69}"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9BE271-65AF-4C80-B3B2-EBE66EF5936A}"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FCBF50-B15B-426B-9C9A-27736F8D62B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2B89E6-4725-4873-B63B-9505510DA75E}"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79B554-84DB-4443-BDD7-1FEBEAEFA1F9}"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3A6905-96BD-4FE1-826C-9B801D1D74F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3097D3-D087-461F-BDF5-AC8E391A14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07C877-02C9-4808-A9D0-4C342A20A0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728CCF-8601-4699-97AC-CF99CB7D943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58A2C8-76E2-40D5-AA6B-997463FCEE5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660E3B-A7BF-4F83-9E04-67727E93AAC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27FF6F-7C0E-4029-9014-B4A1C193BB1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5E188D-7F06-40C4-A494-183CFCAC47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E40C71-5D6D-49C2-8451-A63EA81DE23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3C3710-734D-4CD3-927E-95E8D3922D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2298C9-0F25-4731-8466-5AFA7E858FC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73AF73-FBE1-4A36-9A97-DCF026CEDF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D5423F-E876-478A-9783-312A86D6C19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0B7E5A-B98A-4F60-A8ED-CF8EF09F6C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58514B-4B97-4DD6-B4FA-E6EA6CCA86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B31322-D691-492C-9AF5-691D58C136B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2D0DDC-9963-4F73-B7E0-1F913B568FD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491E19-364A-4803-AFFA-17844343DC5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0FB23D-31DF-4722-BD96-931E3BF47F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B810F6-9E13-4F51-B151-52DE4CA74A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13C1F1-2F0A-4DA7-B44D-CAB2EAD404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1B17C9-2CBD-48AF-962A-AD43732FA2E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8C90F8-8815-42B9-AD95-D9FCE648760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A58EBE-5510-4BF3-B05A-2140A5EABE0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71D91A-C667-4EF2-A63F-E79BFE17DB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9B2473-1EF6-4350-8801-41A641B77CA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9628E1-762B-4BC5-8232-1CCA251D24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EFE4B3-3CF4-4CB1-B8D9-FE7EFA490CF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138112-22B0-4222-8F3F-80C8DF684FA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31CDA8-A1DF-4428-939C-2608F57D10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441678-BCA2-4044-8C2C-20B5E56781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9CD618-E8F9-484C-A7DA-CD9DFFE858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C98FB2-3905-4555-BC8B-376164BC3F1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190E90-2F9A-4E87-8022-742377D2F4B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5092EB-FC73-4050-A717-CE158F9F37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8F5BD5-8736-4889-BC58-C9771F9FB71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B46341-ACB8-4FE9-A28E-1C9A4F6F622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ABC4A0-487A-4E58-9005-800D25B201F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CB3487-45D5-4DD1-8B41-2766447A9A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DBAAF6-9F4B-4EC6-8E2C-86E716C5BB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91CFD1-27EE-494F-8D28-AB609275D4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F6A3B4-A5EC-4B3F-AA64-D413B9631B7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031AAD-AC68-43B7-BF2A-378604EC493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811E63-C61E-4967-BE7E-DDADA63431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328493-52AC-498F-81F3-4A1FD1172A7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814E7C-5D68-4327-9160-32A0164669E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4E11C9-6310-4FDA-894A-91D9CA479B0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BCAD8F-144A-403E-8877-B415396700A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6170ED-CD6E-47C8-AE84-07A5B2FAE3A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F71F75-1AB0-4946-A7D7-36CEF2E9F68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7C90D8-2555-4834-BCD2-F0AD94E4DE7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C090F0-A992-40CE-8D37-780CD8210BA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73BA8A-317B-4FA2-98D2-49B7781620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524E4F-1F46-46C3-99C8-56B961C1DD1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BFC1AF-069C-46BB-A7C6-C04A135064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3D06FE-7FF5-4544-B8AC-3311A4A694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924DAF-7CF4-41FA-8712-9ACA3717A1F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FEF0A8-5100-4AEB-A55B-B0C9FD47E1C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B9060C-0670-4855-856E-1F3656BDA7A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6A4214-B5FF-4C4B-A73C-5A76E57BEED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8197C1-28AD-46CE-8CCD-CE2E647414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0C2324-2D47-44C9-8AA3-87025EB743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DD674B-4948-45B6-9B5E-6F77F283CDC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AC2EE3-5739-476E-8E2F-2A248E5259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7DFBB1-2BBA-4AD6-8C06-17EE911045A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26A433-A3A6-4967-AB3E-668643DA1D7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7511A6-2D1B-4124-BAF8-E709A34466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56FF3C-157B-4B62-8B75-CA9238CAF53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0AF847-6223-4B91-A46D-620A5D8D7D7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ECB720-B99F-4E98-A12B-49FAA64641D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95BE59-0C84-46AD-A6E2-2C0E5B4BA47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2C67DF-1342-4BE0-B843-20327FE6420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942B5C-C583-4183-82F0-A6110AC913A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B4513C-D5C2-4688-8A89-59DBD98C3D1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77347F-E4F6-455B-83B5-941FDCFBA6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8ABC62-C8DA-41B0-82CD-1C9F8349192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55F881-398C-425E-8891-BC67684155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421E9E-5185-4C56-BEB0-0234EB010A0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CFA7FD-7D5D-4065-B340-1F025C2E55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79E99B-18D0-4400-B1EC-106ADA12FF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EF9560-F52E-4E4B-A173-F51D2D21D8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AB95F4-D0E9-4DB9-9C3A-8A9CC0B8C8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BC6247-2105-4898-A1BD-E630FD5E23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C77041-4549-4C21-B2C5-E899D860460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DB865D-312F-45D0-AE83-428A84277E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C46EB6-4008-4AAF-BEB7-E451721E19D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2CD270-6DF9-4FC4-A780-1BBAC9A974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7A1F22-5ED2-4905-B112-C6BDEB6F1A5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4C57E1-6AF4-4366-B532-5DA112E0AB7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1A52F9-B0A4-4D4E-9378-D1195C0C685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CDAC0E-2E4C-431F-A458-03AD2018CD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A57103-3ADA-4A9A-859D-A06E7DC390A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A6F2D4-467C-4F15-AA42-09BF2D5A193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3"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τελευταία χρόνια μεγάλα ποσά διατίθενται για την Πρωτοβάθμια και τη</a:t>
            </a:r>
            <a:r>
              <a:rPr b="0" lang="en-US" sz="2800" spc="-1" strike="noStrike">
                <a:solidFill>
                  <a:srgbClr val="000000"/>
                </a:solidFill>
                <a:latin typeface="Times New Roman"/>
              </a:rPr>
              <a:t> </a:t>
            </a:r>
            <a:r>
              <a:rPr b="0" lang="el-GR" sz="2800" spc="-1" strike="noStrike">
                <a:solidFill>
                  <a:srgbClr val="000000"/>
                </a:solidFill>
                <a:latin typeface="Times New Roman"/>
              </a:rPr>
              <a:t>Δευτεροβάθμια Εκπαίδευση από το Επιχειρησιακό Πρόγραμμα Εκπαίδευσης και</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Κατάρτισης (Ε.Π.ΕΑ.Ε.Κ. Ι και Ε.Π.ΕΑ.Ε.Κ. II). </a:t>
            </a:r>
            <a:endParaRPr b="0" lang="en-US" sz="2800" spc="-1" strike="noStrike">
              <a:solidFill>
                <a:srgbClr val="ffffff"/>
              </a:solidFill>
              <a:latin typeface="Times New Roman"/>
            </a:endParaRPr>
          </a:p>
        </p:txBody>
      </p:sp>
      <p:grpSp>
        <p:nvGrpSpPr>
          <p:cNvPr id="6474" name="Group 2"/>
          <p:cNvGrpSpPr/>
          <p:nvPr/>
        </p:nvGrpSpPr>
        <p:grpSpPr>
          <a:xfrm>
            <a:off x="0" y="115920"/>
            <a:ext cx="9140760" cy="6548400"/>
            <a:chOff x="0" y="115920"/>
            <a:chExt cx="9140760" cy="6548400"/>
          </a:xfrm>
        </p:grpSpPr>
        <p:grpSp>
          <p:nvGrpSpPr>
            <p:cNvPr id="6475" name="Group 3"/>
            <p:cNvGrpSpPr/>
            <p:nvPr/>
          </p:nvGrpSpPr>
          <p:grpSpPr>
            <a:xfrm>
              <a:off x="0" y="115920"/>
              <a:ext cx="9140760" cy="6548400"/>
              <a:chOff x="0" y="115920"/>
              <a:chExt cx="9140760" cy="6548400"/>
            </a:xfrm>
          </p:grpSpPr>
          <p:sp>
            <p:nvSpPr>
              <p:cNvPr id="64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1"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2"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a:t>
            </a:r>
            <a:r>
              <a:rPr b="0" lang="en-US" sz="2800" spc="-1" strike="noStrike">
                <a:solidFill>
                  <a:srgbClr val="000000"/>
                </a:solidFill>
                <a:latin typeface="Times New Roman"/>
              </a:rPr>
              <a:t> </a:t>
            </a:r>
            <a:r>
              <a:rPr b="0" lang="el-GR" sz="2800" spc="-1" strike="noStrike">
                <a:solidFill>
                  <a:srgbClr val="000000"/>
                </a:solidFill>
                <a:latin typeface="Times New Roman"/>
              </a:rPr>
              <a:t>πλαίσιο του Ε.Π.ΕΑ.Ε.Κ. Ι πραγματοποιήθηκαν έργα που αφορούσαν Προγράμματα</a:t>
            </a:r>
            <a:r>
              <a:rPr b="0" lang="en-US" sz="2800" spc="-1" strike="noStrike">
                <a:solidFill>
                  <a:srgbClr val="000000"/>
                </a:solidFill>
                <a:latin typeface="Times New Roman"/>
              </a:rPr>
              <a:t> </a:t>
            </a:r>
            <a:r>
              <a:rPr b="0" lang="el-GR" sz="2800" spc="-1" strike="noStrike">
                <a:solidFill>
                  <a:srgbClr val="000000"/>
                </a:solidFill>
                <a:latin typeface="Times New Roman"/>
              </a:rPr>
              <a:t>Σπουδών, </a:t>
            </a:r>
            <a:br>
              <a:rPr sz="2800"/>
            </a:br>
            <a:r>
              <a:rPr b="0" lang="el-GR" sz="2800" spc="-1" strike="noStrike">
                <a:solidFill>
                  <a:srgbClr val="000000"/>
                </a:solidFill>
                <a:latin typeface="Times New Roman"/>
              </a:rPr>
              <a:t>βιβλία και υποδομές των δύο πρώτων βαθμίδων της εκπαίδευσης. </a:t>
            </a:r>
            <a:endParaRPr b="0" lang="en-US" sz="2800" spc="-1" strike="noStrike">
              <a:solidFill>
                <a:srgbClr val="ffffff"/>
              </a:solidFill>
              <a:latin typeface="Times New Roman"/>
            </a:endParaRPr>
          </a:p>
        </p:txBody>
      </p:sp>
      <p:grpSp>
        <p:nvGrpSpPr>
          <p:cNvPr id="6483" name="Group 2"/>
          <p:cNvGrpSpPr/>
          <p:nvPr/>
        </p:nvGrpSpPr>
        <p:grpSpPr>
          <a:xfrm>
            <a:off x="0" y="115920"/>
            <a:ext cx="9140760" cy="6548400"/>
            <a:chOff x="0" y="115920"/>
            <a:chExt cx="9140760" cy="6548400"/>
          </a:xfrm>
        </p:grpSpPr>
        <p:grpSp>
          <p:nvGrpSpPr>
            <p:cNvPr id="6484" name="Group 3"/>
            <p:cNvGrpSpPr/>
            <p:nvPr/>
          </p:nvGrpSpPr>
          <p:grpSpPr>
            <a:xfrm>
              <a:off x="0" y="115920"/>
              <a:ext cx="9140760" cy="6548400"/>
              <a:chOff x="0" y="115920"/>
              <a:chExt cx="9140760" cy="6548400"/>
            </a:xfrm>
          </p:grpSpPr>
          <p:sp>
            <p:nvSpPr>
              <p:cNvPr id="64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0"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1" name="Text Box 1"/>
          <p:cNvSpPr/>
          <p:nvPr/>
        </p:nvSpPr>
        <p:spPr>
          <a:xfrm>
            <a:off x="539640" y="981000"/>
            <a:ext cx="820908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οωθήθηκαν επίσης ,</a:t>
            </a:r>
            <a:br>
              <a:rPr sz="2800"/>
            </a:br>
            <a:r>
              <a:rPr b="0" lang="el-GR" sz="2800" spc="-1" strike="noStrike">
                <a:solidFill>
                  <a:srgbClr val="000000"/>
                </a:solidFill>
                <a:latin typeface="Times New Roman"/>
              </a:rPr>
              <a:t> η εισαγωγή των Νέων Τεχνολογιών στην εκπαίδευση, χρηματοδοτήθηκαν οι σχολικές δραστηριότητες (Περιβαλλοντική Εκπαίδευση, Αγωγή</a:t>
            </a:r>
            <a:br>
              <a:rPr sz="2800"/>
            </a:br>
            <a:r>
              <a:rPr b="0" lang="el-GR" sz="2800" spc="-1" strike="noStrike">
                <a:solidFill>
                  <a:srgbClr val="000000"/>
                </a:solidFill>
                <a:latin typeface="Times New Roman"/>
              </a:rPr>
              <a:t>Υγείας, Αγωγή Καταναλωτή) και επιμορφώθηκε μεγάλος αριθμός εκπαιδευτικών.</a:t>
            </a:r>
            <a:br>
              <a:rPr sz="2800"/>
            </a:br>
            <a:r>
              <a:rPr b="0" lang="el-GR" sz="2800" spc="-1" strike="noStrike">
                <a:solidFill>
                  <a:srgbClr val="000000"/>
                </a:solidFill>
                <a:latin typeface="Times New Roman"/>
              </a:rPr>
              <a:t>, μουσουλμανόπαιδες, άτομα με ειδικές ανάγκες (ΥΠ.Ε.Π.Θ., 2000).</a:t>
            </a:r>
            <a:endParaRPr b="0" lang="en-US" sz="2800" spc="-1" strike="noStrike">
              <a:solidFill>
                <a:srgbClr val="ffffff"/>
              </a:solidFill>
              <a:latin typeface="Times New Roman"/>
            </a:endParaRPr>
          </a:p>
        </p:txBody>
      </p:sp>
      <p:grpSp>
        <p:nvGrpSpPr>
          <p:cNvPr id="6492" name="Group 2"/>
          <p:cNvGrpSpPr/>
          <p:nvPr/>
        </p:nvGrpSpPr>
        <p:grpSpPr>
          <a:xfrm>
            <a:off x="0" y="115920"/>
            <a:ext cx="9140760" cy="6548400"/>
            <a:chOff x="0" y="115920"/>
            <a:chExt cx="9140760" cy="6548400"/>
          </a:xfrm>
        </p:grpSpPr>
        <p:grpSp>
          <p:nvGrpSpPr>
            <p:cNvPr id="6493" name="Group 3"/>
            <p:cNvGrpSpPr/>
            <p:nvPr/>
          </p:nvGrpSpPr>
          <p:grpSpPr>
            <a:xfrm>
              <a:off x="0" y="115920"/>
              <a:ext cx="9140760" cy="6548400"/>
              <a:chOff x="0" y="115920"/>
              <a:chExt cx="9140760" cy="6548400"/>
            </a:xfrm>
          </p:grpSpPr>
          <p:sp>
            <p:nvSpPr>
              <p:cNvPr id="64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9"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0" name="Text Box 1"/>
          <p:cNvSpPr/>
          <p:nvPr/>
        </p:nvSpPr>
        <p:spPr>
          <a:xfrm>
            <a:off x="539640" y="981000"/>
            <a:ext cx="820908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Προωθήθηκαν, συγχρόνως, μέτρα ένταξης στο εκπαιδευτικό σύστημα μαθητών ειδικών κατηγοριών, όπως παλιννοστούντες, τσιγγανόπαιδες, μουσουλμανόπαιδες, καθώς και τα άτομα με ειδικές ανάγκες (ΥΠ.Ε.Π.Θ., 2000).</a:t>
            </a:r>
            <a:endParaRPr b="0" lang="en-US" sz="2800" spc="-1" strike="noStrike">
              <a:solidFill>
                <a:srgbClr val="ffffff"/>
              </a:solidFill>
              <a:latin typeface="Times New Roman"/>
            </a:endParaRPr>
          </a:p>
        </p:txBody>
      </p:sp>
      <p:grpSp>
        <p:nvGrpSpPr>
          <p:cNvPr id="6501" name="Group 2"/>
          <p:cNvGrpSpPr/>
          <p:nvPr/>
        </p:nvGrpSpPr>
        <p:grpSpPr>
          <a:xfrm>
            <a:off x="0" y="115920"/>
            <a:ext cx="9140760" cy="6548400"/>
            <a:chOff x="0" y="115920"/>
            <a:chExt cx="9140760" cy="6548400"/>
          </a:xfrm>
        </p:grpSpPr>
        <p:grpSp>
          <p:nvGrpSpPr>
            <p:cNvPr id="6502" name="Group 3"/>
            <p:cNvGrpSpPr/>
            <p:nvPr/>
          </p:nvGrpSpPr>
          <p:grpSpPr>
            <a:xfrm>
              <a:off x="0" y="115920"/>
              <a:ext cx="9140760" cy="6548400"/>
              <a:chOff x="0" y="115920"/>
              <a:chExt cx="9140760" cy="6548400"/>
            </a:xfrm>
          </p:grpSpPr>
          <p:sp>
            <p:nvSpPr>
              <p:cNvPr id="65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8"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του Ε.Π.Ε.Α.Ε.Κ. II συνεχίστηκαν ορισμένες από τις ενέργειες του</a:t>
            </a:r>
            <a:br>
              <a:rPr sz="2800"/>
            </a:br>
            <a:r>
              <a:rPr b="0" lang="el-GR" sz="2800" spc="-1" strike="noStrike">
                <a:solidFill>
                  <a:srgbClr val="000000"/>
                </a:solidFill>
                <a:latin typeface="Times New Roman"/>
              </a:rPr>
              <a:t>Ε.Π.Ε.Α.Ε.Κ. Ι. Κατά τη διάρκεια της προγραμματικής περιόδου του Γ' Κοινοτικού</a:t>
            </a:r>
            <a:br>
              <a:rPr sz="2800"/>
            </a:br>
            <a:r>
              <a:rPr b="0" lang="el-GR" sz="2800" spc="-1" strike="noStrike">
                <a:solidFill>
                  <a:srgbClr val="000000"/>
                </a:solidFill>
                <a:latin typeface="Times New Roman"/>
              </a:rPr>
              <a:t>Πλαισίου Στήριξης (2000-2006) δόθηκε έμφαση σε επιπρόσθετα μέτρα, όπως η</a:t>
            </a:r>
            <a:br>
              <a:rPr sz="2800"/>
            </a:br>
            <a:r>
              <a:rPr b="0" lang="el-GR" sz="2800" spc="-1" strike="noStrike">
                <a:solidFill>
                  <a:srgbClr val="000000"/>
                </a:solidFill>
                <a:latin typeface="Times New Roman"/>
              </a:rPr>
              <a:t>καταπολέμηση της σχολικής αποτυχίας με εναλλακτικές μορφές μάθησης. </a:t>
            </a:r>
            <a:endParaRPr b="0" lang="en-US" sz="2800" spc="-1" strike="noStrike">
              <a:solidFill>
                <a:srgbClr val="ffffff"/>
              </a:solidFill>
              <a:latin typeface="Times New Roman"/>
            </a:endParaRPr>
          </a:p>
        </p:txBody>
      </p:sp>
      <p:grpSp>
        <p:nvGrpSpPr>
          <p:cNvPr id="6510" name="Group 2"/>
          <p:cNvGrpSpPr/>
          <p:nvPr/>
        </p:nvGrpSpPr>
        <p:grpSpPr>
          <a:xfrm>
            <a:off x="0" y="115920"/>
            <a:ext cx="9140760" cy="6548400"/>
            <a:chOff x="0" y="115920"/>
            <a:chExt cx="9140760" cy="6548400"/>
          </a:xfrm>
        </p:grpSpPr>
        <p:grpSp>
          <p:nvGrpSpPr>
            <p:cNvPr id="6511" name="Group 3"/>
            <p:cNvGrpSpPr/>
            <p:nvPr/>
          </p:nvGrpSpPr>
          <p:grpSpPr>
            <a:xfrm>
              <a:off x="0" y="115920"/>
              <a:ext cx="9140760" cy="6548400"/>
              <a:chOff x="0" y="115920"/>
              <a:chExt cx="9140760" cy="6548400"/>
            </a:xfrm>
          </p:grpSpPr>
          <p:sp>
            <p:nvSpPr>
              <p:cNvPr id="65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7"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8" name="Text Box 1"/>
          <p:cNvSpPr/>
          <p:nvPr/>
        </p:nvSpPr>
        <p:spPr>
          <a:xfrm>
            <a:off x="39528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ροώθηση της ισότητας των ευκαιριών πρόσβασης στην αγορά εργασίας για όλους</a:t>
            </a:r>
            <a:br>
              <a:rPr sz="2800"/>
            </a:br>
            <a:r>
              <a:rPr b="0" lang="el-GR" sz="2800" spc="-1" strike="noStrike">
                <a:solidFill>
                  <a:srgbClr val="000000"/>
                </a:solidFill>
                <a:latin typeface="Times New Roman"/>
              </a:rPr>
              <a:t>και ιδιαίτερα για όσους απειλούνται </a:t>
            </a:r>
            <a:br>
              <a:rPr sz="2800"/>
            </a:br>
            <a:r>
              <a:rPr b="0" lang="el-GR" sz="2800" spc="-1" strike="noStrike">
                <a:solidFill>
                  <a:srgbClr val="000000"/>
                </a:solidFill>
                <a:latin typeface="Times New Roman"/>
              </a:rPr>
              <a:t>με κοινωνικό αποκλεισμό, </a:t>
            </a:r>
            <a:br>
              <a:rPr sz="2800"/>
            </a:br>
            <a:r>
              <a:rPr b="0" lang="el-GR" sz="2800" spc="-1" strike="noStrike">
                <a:solidFill>
                  <a:srgbClr val="000000"/>
                </a:solidFill>
                <a:latin typeface="Times New Roman"/>
              </a:rPr>
              <a:t>η βελτίωση της</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εκπαίδευσης </a:t>
            </a:r>
            <a:br>
              <a:rPr sz="2800"/>
            </a:br>
            <a:r>
              <a:rPr b="0" lang="el-GR" sz="2800" spc="-1" strike="noStrike">
                <a:solidFill>
                  <a:srgbClr val="000000"/>
                </a:solidFill>
                <a:latin typeface="Times New Roman"/>
              </a:rPr>
              <a:t>και κατάρτισης στο πλαίσιο της διά βίου μάθησης </a:t>
            </a:r>
            <a:br>
              <a:rPr sz="2800"/>
            </a:br>
            <a:r>
              <a:rPr b="0" lang="el-GR" sz="2800" spc="-1" strike="noStrike">
                <a:solidFill>
                  <a:srgbClr val="000000"/>
                </a:solidFill>
                <a:latin typeface="Times New Roman"/>
              </a:rPr>
              <a:t>και η προώθηση του επαγγελματικού προσανατολισμού και της σύνδεσης με την αγορά εργασίας </a:t>
            </a:r>
            <a:br>
              <a:rPr sz="2800"/>
            </a:br>
            <a:r>
              <a:rPr b="0" lang="el-GR" sz="2800" spc="-1" strike="noStrike">
                <a:solidFill>
                  <a:srgbClr val="000000"/>
                </a:solidFill>
                <a:latin typeface="Times New Roman"/>
              </a:rPr>
              <a:t>(ΥΠ.Ε.Π.Θ., 2007). </a:t>
            </a:r>
            <a:endParaRPr b="0" lang="en-US" sz="2800" spc="-1" strike="noStrike">
              <a:solidFill>
                <a:srgbClr val="ffffff"/>
              </a:solidFill>
              <a:latin typeface="Times New Roman"/>
            </a:endParaRPr>
          </a:p>
        </p:txBody>
      </p:sp>
      <p:grpSp>
        <p:nvGrpSpPr>
          <p:cNvPr id="6519" name="Group 2"/>
          <p:cNvGrpSpPr/>
          <p:nvPr/>
        </p:nvGrpSpPr>
        <p:grpSpPr>
          <a:xfrm>
            <a:off x="0" y="115920"/>
            <a:ext cx="9140760" cy="6548400"/>
            <a:chOff x="0" y="115920"/>
            <a:chExt cx="9140760" cy="6548400"/>
          </a:xfrm>
        </p:grpSpPr>
        <p:grpSp>
          <p:nvGrpSpPr>
            <p:cNvPr id="6520" name="Group 3"/>
            <p:cNvGrpSpPr/>
            <p:nvPr/>
          </p:nvGrpSpPr>
          <p:grpSpPr>
            <a:xfrm>
              <a:off x="0" y="115920"/>
              <a:ext cx="9140760" cy="6548400"/>
              <a:chOff x="0" y="115920"/>
              <a:chExt cx="9140760" cy="6548400"/>
            </a:xfrm>
          </p:grpSpPr>
          <p:sp>
            <p:nvSpPr>
              <p:cNvPr id="65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6"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τέταρτη προγραμματική</a:t>
            </a:r>
            <a:br>
              <a:rPr sz="2800"/>
            </a:br>
            <a:r>
              <a:rPr b="0" lang="el-GR" sz="2800" spc="-1" strike="noStrike">
                <a:solidFill>
                  <a:srgbClr val="000000"/>
                </a:solidFill>
                <a:latin typeface="Times New Roman"/>
              </a:rPr>
              <a:t>περίοδο (2007-2013) του Δ' Κοινοτικού Πλαισίου Στήριξης αποτυπωνόταν η</a:t>
            </a:r>
            <a:br>
              <a:rPr sz="2800"/>
            </a:br>
            <a:r>
              <a:rPr b="0" lang="el-GR" sz="2800" spc="-1" strike="noStrike">
                <a:solidFill>
                  <a:srgbClr val="000000"/>
                </a:solidFill>
                <a:latin typeface="Times New Roman"/>
              </a:rPr>
              <a:t>στρατηγική επένδυσης στην ανάπτυξη του ανθρώπινου δυναμικού των κοινωνιών της</a:t>
            </a:r>
            <a:br>
              <a:rPr sz="2800"/>
            </a:br>
            <a:r>
              <a:rPr b="0" lang="el-GR" sz="2800" spc="-1" strike="noStrike">
                <a:solidFill>
                  <a:srgbClr val="000000"/>
                </a:solidFill>
                <a:latin typeface="Times New Roman"/>
              </a:rPr>
              <a:t>Ευρωπαϊκής Ένωσης και για αυτό δίνονταν ιδιαίτερο βάρος στον τομέα της εκπαίδευσης </a:t>
            </a:r>
            <a:br>
              <a:rPr sz="2800"/>
            </a:br>
            <a:r>
              <a:rPr b="0" lang="el-GR" sz="2800" spc="-1" strike="noStrike">
                <a:solidFill>
                  <a:srgbClr val="000000"/>
                </a:solidFill>
                <a:latin typeface="Times New Roman"/>
              </a:rPr>
              <a:t>(ΥΠ.ΕΘ.Ο.Ο., 2007).</a:t>
            </a:r>
            <a:endParaRPr b="0" lang="en-US" sz="2800" spc="-1" strike="noStrike">
              <a:solidFill>
                <a:srgbClr val="ffffff"/>
              </a:solidFill>
              <a:latin typeface="Times New Roman"/>
            </a:endParaRPr>
          </a:p>
        </p:txBody>
      </p:sp>
      <p:grpSp>
        <p:nvGrpSpPr>
          <p:cNvPr id="6528" name="Group 2"/>
          <p:cNvGrpSpPr/>
          <p:nvPr/>
        </p:nvGrpSpPr>
        <p:grpSpPr>
          <a:xfrm>
            <a:off x="0" y="115920"/>
            <a:ext cx="9140760" cy="6548400"/>
            <a:chOff x="0" y="115920"/>
            <a:chExt cx="9140760" cy="6548400"/>
          </a:xfrm>
        </p:grpSpPr>
        <p:grpSp>
          <p:nvGrpSpPr>
            <p:cNvPr id="6529" name="Group 3"/>
            <p:cNvGrpSpPr/>
            <p:nvPr/>
          </p:nvGrpSpPr>
          <p:grpSpPr>
            <a:xfrm>
              <a:off x="0" y="115920"/>
              <a:ext cx="9140760" cy="6548400"/>
              <a:chOff x="0" y="115920"/>
              <a:chExt cx="9140760" cy="6548400"/>
            </a:xfrm>
          </p:grpSpPr>
          <p:sp>
            <p:nvSpPr>
              <p:cNvPr id="65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4"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5"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6" name="Text Box 1"/>
          <p:cNvSpPr/>
          <p:nvPr/>
        </p:nvSpPr>
        <p:spPr>
          <a:xfrm>
            <a:off x="32400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βάσει του Εθνικού Στρατηγικού Πλαισίου Αναφοράς (Ε.Σ.Π.Α.) οργανώνονται και υλοποιούνται καινοτόμα και αναπτυξιακά προγράμματα που χρηματοδοτούνται κατά 75% από πόρους της Ευρωπαϊκής Ένωσης και κατά 25% από εθνικούς πόρους. </a:t>
            </a:r>
            <a:br>
              <a:rPr sz="2800"/>
            </a:br>
            <a:endParaRPr b="0" lang="en-US" sz="2800" spc="-1" strike="noStrike">
              <a:solidFill>
                <a:srgbClr val="ffffff"/>
              </a:solidFill>
              <a:latin typeface="Times New Roman"/>
            </a:endParaRPr>
          </a:p>
        </p:txBody>
      </p:sp>
      <p:grpSp>
        <p:nvGrpSpPr>
          <p:cNvPr id="6537" name="Group 2"/>
          <p:cNvGrpSpPr/>
          <p:nvPr/>
        </p:nvGrpSpPr>
        <p:grpSpPr>
          <a:xfrm>
            <a:off x="0" y="115920"/>
            <a:ext cx="9140760" cy="6548400"/>
            <a:chOff x="0" y="115920"/>
            <a:chExt cx="9140760" cy="6548400"/>
          </a:xfrm>
        </p:grpSpPr>
        <p:grpSp>
          <p:nvGrpSpPr>
            <p:cNvPr id="6538" name="Group 3"/>
            <p:cNvGrpSpPr/>
            <p:nvPr/>
          </p:nvGrpSpPr>
          <p:grpSpPr>
            <a:xfrm>
              <a:off x="0" y="115920"/>
              <a:ext cx="9140760" cy="6548400"/>
              <a:chOff x="0" y="115920"/>
              <a:chExt cx="9140760" cy="6548400"/>
            </a:xfrm>
          </p:grpSpPr>
          <p:sp>
            <p:nvSpPr>
              <p:cNvPr id="65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4"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Text Box 1"/>
          <p:cNvSpPr/>
          <p:nvPr/>
        </p:nvSpPr>
        <p:spPr>
          <a:xfrm>
            <a:off x="32400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Βασικός στόχος του εγχειρήματος είναι η οργάνωση εκπαίδευσης και Διά Βίου Μάθησης κατά τρόπο ικανό να δίνει ενεργό συμμετοχή στην κοινωνία, να οδηγεί σε απρόσκοπτη ένταξη στην αγορά εργασίας και να καταπολεμά τη σχολική διαρροή, ιδιαίτερα για τις ευπαθείς ομάδες </a:t>
            </a:r>
            <a:br>
              <a:rPr sz="2800"/>
            </a:br>
            <a:r>
              <a:rPr b="0" lang="el-GR" sz="2800" spc="-1" strike="noStrike">
                <a:solidFill>
                  <a:srgbClr val="000000"/>
                </a:solidFill>
                <a:latin typeface="Times New Roman"/>
              </a:rPr>
              <a:t>(ΥΠ.Ε.Π.Θ/Παιδαγωγικό Ινστιτούτο, 2008).</a:t>
            </a:r>
            <a:endParaRPr b="0" lang="en-US" sz="2800" spc="-1" strike="noStrike">
              <a:solidFill>
                <a:srgbClr val="ffffff"/>
              </a:solidFill>
              <a:latin typeface="Times New Roman"/>
            </a:endParaRPr>
          </a:p>
        </p:txBody>
      </p:sp>
      <p:grpSp>
        <p:nvGrpSpPr>
          <p:cNvPr id="6546" name="Group 2"/>
          <p:cNvGrpSpPr/>
          <p:nvPr/>
        </p:nvGrpSpPr>
        <p:grpSpPr>
          <a:xfrm>
            <a:off x="0" y="115920"/>
            <a:ext cx="9140760" cy="6548400"/>
            <a:chOff x="0" y="115920"/>
            <a:chExt cx="9140760" cy="6548400"/>
          </a:xfrm>
        </p:grpSpPr>
        <p:grpSp>
          <p:nvGrpSpPr>
            <p:cNvPr id="6547" name="Group 3"/>
            <p:cNvGrpSpPr/>
            <p:nvPr/>
          </p:nvGrpSpPr>
          <p:grpSpPr>
            <a:xfrm>
              <a:off x="0" y="115920"/>
              <a:ext cx="9140760" cy="6548400"/>
              <a:chOff x="0" y="115920"/>
              <a:chExt cx="9140760" cy="6548400"/>
            </a:xfrm>
          </p:grpSpPr>
          <p:sp>
            <p:nvSpPr>
              <p:cNvPr id="65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3"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ε μεγάλης κλίμακα έρευνα ερευνητών (των Σπυροπούλου, Κόνταρη, Αντωνακάκη</a:t>
            </a:r>
            <a:br>
              <a:rPr sz="2800"/>
            </a:br>
            <a:r>
              <a:rPr b="0" lang="el-GR" sz="2800" spc="-1" strike="noStrike">
                <a:solidFill>
                  <a:srgbClr val="000000"/>
                </a:solidFill>
                <a:latin typeface="Times New Roman"/>
              </a:rPr>
              <a:t>και Χαλά, (2007) αναφορικά με τους οικονομικούς πόρους που δίνονται στην</a:t>
            </a:r>
            <a:br>
              <a:rPr sz="2800"/>
            </a:br>
            <a:r>
              <a:rPr b="0" lang="el-GR" sz="2800" spc="-1" strike="noStrike">
                <a:solidFill>
                  <a:srgbClr val="000000"/>
                </a:solidFill>
                <a:latin typeface="Times New Roman"/>
              </a:rPr>
              <a:t>εκπαίδευση, οι συμμετέχοντες (στελέχη, διευθυντές, εκπαιδευτικοί και γονείς) ιδίως η</a:t>
            </a:r>
            <a:br>
              <a:rPr sz="2800"/>
            </a:br>
            <a:r>
              <a:rPr b="0" lang="el-GR" sz="2800" spc="-1" strike="noStrike">
                <a:solidFill>
                  <a:srgbClr val="000000"/>
                </a:solidFill>
                <a:latin typeface="Times New Roman"/>
              </a:rPr>
              <a:t>μερίδα των διευθυντών και των εκπαιδευτικών δήλωσαν τη μη επάρκεια των πόρων</a:t>
            </a:r>
            <a:br>
              <a:rPr sz="2800"/>
            </a:br>
            <a:r>
              <a:rPr b="0" lang="el-GR" sz="2800" spc="-1" strike="noStrike">
                <a:solidFill>
                  <a:srgbClr val="000000"/>
                </a:solidFill>
                <a:latin typeface="Times New Roman"/>
              </a:rPr>
              <a:t>για κάλυψη των λειτουργικών αναγκών των σχολικών μονάδων που εργάζονται.</a:t>
            </a:r>
            <a:br>
              <a:rPr sz="2000"/>
            </a:br>
            <a:endParaRPr b="0" lang="en-US" sz="2800" spc="-1" strike="noStrike">
              <a:solidFill>
                <a:srgbClr val="ffffff"/>
              </a:solidFill>
              <a:latin typeface="Times New Roman"/>
            </a:endParaRPr>
          </a:p>
        </p:txBody>
      </p:sp>
      <p:grpSp>
        <p:nvGrpSpPr>
          <p:cNvPr id="6555" name="Group 2"/>
          <p:cNvGrpSpPr/>
          <p:nvPr/>
        </p:nvGrpSpPr>
        <p:grpSpPr>
          <a:xfrm>
            <a:off x="0" y="115920"/>
            <a:ext cx="9140760" cy="6548400"/>
            <a:chOff x="0" y="115920"/>
            <a:chExt cx="9140760" cy="6548400"/>
          </a:xfrm>
        </p:grpSpPr>
        <p:grpSp>
          <p:nvGrpSpPr>
            <p:cNvPr id="6556" name="Group 3"/>
            <p:cNvGrpSpPr/>
            <p:nvPr/>
          </p:nvGrpSpPr>
          <p:grpSpPr>
            <a:xfrm>
              <a:off x="0" y="115920"/>
              <a:ext cx="9140760" cy="6548400"/>
              <a:chOff x="0" y="115920"/>
              <a:chExt cx="9140760" cy="6548400"/>
            </a:xfrm>
          </p:grpSpPr>
          <p:sp>
            <p:nvSpPr>
              <p:cNvPr id="65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1"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2"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357120" y="1268280"/>
            <a:ext cx="84297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600" spc="-1" strike="noStrike">
                <a:solidFill>
                  <a:srgbClr val="000000"/>
                </a:solidFill>
                <a:latin typeface="Times New Roman"/>
              </a:rPr>
              <a:t>Οργάνωση Υποδομών και Διαμόρφωση Περιβάλλοντος Εκπαίδευσης και Μάθησης</a:t>
            </a:r>
            <a:br>
              <a:rPr sz="3600"/>
            </a:br>
            <a:br>
              <a:rPr sz="3600"/>
            </a:b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Συγκεκριμένα, αποτυπώνονται ως σημαντικά προβλήματα της παρεχόμενης</a:t>
            </a:r>
            <a:br>
              <a:rPr sz="2800"/>
            </a:br>
            <a:r>
              <a:rPr b="0" lang="el-GR" sz="2800" spc="-1" strike="noStrike">
                <a:solidFill>
                  <a:srgbClr val="000000"/>
                </a:solidFill>
                <a:latin typeface="Times New Roman"/>
              </a:rPr>
              <a:t>εκπαίδευσης </a:t>
            </a:r>
            <a:br>
              <a:rPr sz="2800"/>
            </a:br>
            <a:r>
              <a:rPr b="0" lang="el-GR" sz="2800" spc="-1" strike="noStrike">
                <a:solidFill>
                  <a:srgbClr val="000000"/>
                </a:solidFill>
                <a:latin typeface="Times New Roman"/>
              </a:rPr>
              <a:t>η έλλειψη χώρου, καθώς και</a:t>
            </a:r>
            <a:br>
              <a:rPr sz="2800"/>
            </a:br>
            <a:r>
              <a:rPr b="0" lang="el-GR" sz="2800" spc="-1" strike="noStrike">
                <a:solidFill>
                  <a:srgbClr val="000000"/>
                </a:solidFill>
                <a:latin typeface="Times New Roman"/>
              </a:rPr>
              <a:t> η έλλειψη χρηματοδότησης για την αγορά</a:t>
            </a:r>
            <a:br>
              <a:rPr sz="2800"/>
            </a:br>
            <a:r>
              <a:rPr b="0" lang="el-GR" sz="2800" spc="-1" strike="noStrike">
                <a:solidFill>
                  <a:srgbClr val="000000"/>
                </a:solidFill>
                <a:latin typeface="Times New Roman"/>
              </a:rPr>
              <a:t>νέων βιβλίων και </a:t>
            </a:r>
            <a:br>
              <a:rPr sz="2800"/>
            </a:br>
            <a:r>
              <a:rPr b="0" lang="el-GR" sz="2800" spc="-1" strike="noStrike">
                <a:solidFill>
                  <a:srgbClr val="000000"/>
                </a:solidFill>
                <a:latin typeface="Times New Roman"/>
              </a:rPr>
              <a:t>εργαστηριακού εξοπλισμού.</a:t>
            </a:r>
            <a:endParaRPr b="0" lang="en-US" sz="2800" spc="-1" strike="noStrike">
              <a:solidFill>
                <a:srgbClr val="ffffff"/>
              </a:solidFill>
              <a:latin typeface="Times New Roman"/>
            </a:endParaRPr>
          </a:p>
        </p:txBody>
      </p:sp>
      <p:grpSp>
        <p:nvGrpSpPr>
          <p:cNvPr id="6564" name="Group 2"/>
          <p:cNvGrpSpPr/>
          <p:nvPr/>
        </p:nvGrpSpPr>
        <p:grpSpPr>
          <a:xfrm>
            <a:off x="0" y="115920"/>
            <a:ext cx="9140760" cy="6548400"/>
            <a:chOff x="0" y="115920"/>
            <a:chExt cx="9140760" cy="6548400"/>
          </a:xfrm>
        </p:grpSpPr>
        <p:grpSp>
          <p:nvGrpSpPr>
            <p:cNvPr id="6565" name="Group 3"/>
            <p:cNvGrpSpPr/>
            <p:nvPr/>
          </p:nvGrpSpPr>
          <p:grpSpPr>
            <a:xfrm>
              <a:off x="0" y="115920"/>
              <a:ext cx="9140760" cy="6548400"/>
              <a:chOff x="0" y="115920"/>
              <a:chExt cx="9140760" cy="6548400"/>
            </a:xfrm>
          </p:grpSpPr>
          <p:sp>
            <p:nvSpPr>
              <p:cNvPr id="65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1"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αρχιτεκτονική των σχολικών κτιρίων έχει ιδιαίτερη σημασία στο φαινόμενο της</a:t>
            </a:r>
            <a:br>
              <a:rPr sz="2800"/>
            </a:br>
            <a:r>
              <a:rPr b="0" lang="el-GR" sz="2800" spc="-1" strike="noStrike">
                <a:solidFill>
                  <a:srgbClr val="000000"/>
                </a:solidFill>
                <a:latin typeface="Times New Roman"/>
              </a:rPr>
              <a:t>αγωγής και αποπνέει το δικό της ψυχοπαιδαγωγικό κλίμα προδιαθέτοντας θετικά ή</a:t>
            </a:r>
            <a:br>
              <a:rPr sz="2800"/>
            </a:br>
            <a:r>
              <a:rPr b="0" lang="el-GR" sz="2800" spc="-1" strike="noStrike">
                <a:solidFill>
                  <a:srgbClr val="000000"/>
                </a:solidFill>
                <a:latin typeface="Times New Roman"/>
              </a:rPr>
              <a:t>αρνητικά όχι μόνο τη μάθηση, αλλά και την εσωτερική διάθεση των χρηστών και</a:t>
            </a:r>
            <a:br>
              <a:rPr sz="2800"/>
            </a:br>
            <a:r>
              <a:rPr b="0" lang="el-GR" sz="2800" spc="-1" strike="noStrike">
                <a:solidFill>
                  <a:srgbClr val="000000"/>
                </a:solidFill>
                <a:latin typeface="Times New Roman"/>
              </a:rPr>
              <a:t>ασκεί τη δική της παιδαγωγική επενέργεια .</a:t>
            </a:r>
            <a:endParaRPr b="0" lang="en-US" sz="2800" spc="-1" strike="noStrike">
              <a:solidFill>
                <a:srgbClr val="ffffff"/>
              </a:solidFill>
              <a:latin typeface="Times New Roman"/>
            </a:endParaRPr>
          </a:p>
        </p:txBody>
      </p:sp>
      <p:grpSp>
        <p:nvGrpSpPr>
          <p:cNvPr id="6573" name="Group 2"/>
          <p:cNvGrpSpPr/>
          <p:nvPr/>
        </p:nvGrpSpPr>
        <p:grpSpPr>
          <a:xfrm>
            <a:off x="0" y="115920"/>
            <a:ext cx="9140760" cy="6548400"/>
            <a:chOff x="0" y="115920"/>
            <a:chExt cx="9140760" cy="6548400"/>
          </a:xfrm>
        </p:grpSpPr>
        <p:grpSp>
          <p:nvGrpSpPr>
            <p:cNvPr id="6574" name="Group 3"/>
            <p:cNvGrpSpPr/>
            <p:nvPr/>
          </p:nvGrpSpPr>
          <p:grpSpPr>
            <a:xfrm>
              <a:off x="0" y="115920"/>
              <a:ext cx="9140760" cy="6548400"/>
              <a:chOff x="0" y="115920"/>
              <a:chExt cx="9140760" cy="6548400"/>
            </a:xfrm>
          </p:grpSpPr>
          <p:sp>
            <p:nvSpPr>
              <p:cNvPr id="65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0"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ffffff"/>
              </a:solidFill>
              <a:latin typeface="Times New Roman"/>
            </a:endParaRPr>
          </a:p>
        </p:txBody>
      </p:sp>
      <p:grpSp>
        <p:nvGrpSpPr>
          <p:cNvPr id="6582" name="Group 2"/>
          <p:cNvGrpSpPr/>
          <p:nvPr/>
        </p:nvGrpSpPr>
        <p:grpSpPr>
          <a:xfrm>
            <a:off x="0" y="115920"/>
            <a:ext cx="9140760" cy="6548400"/>
            <a:chOff x="0" y="115920"/>
            <a:chExt cx="9140760" cy="6548400"/>
          </a:xfrm>
        </p:grpSpPr>
        <p:grpSp>
          <p:nvGrpSpPr>
            <p:cNvPr id="6583" name="Group 3"/>
            <p:cNvGrpSpPr/>
            <p:nvPr/>
          </p:nvGrpSpPr>
          <p:grpSpPr>
            <a:xfrm>
              <a:off x="0" y="115920"/>
              <a:ext cx="9140760" cy="6548400"/>
              <a:chOff x="0" y="115920"/>
              <a:chExt cx="9140760" cy="6548400"/>
            </a:xfrm>
          </p:grpSpPr>
          <p:sp>
            <p:nvSpPr>
              <p:cNvPr id="6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9"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0"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6591" name="Picture 2" descr=""/>
          <p:cNvPicPr/>
          <p:nvPr/>
        </p:nvPicPr>
        <p:blipFill>
          <a:blip r:embed="rId1"/>
          <a:stretch/>
        </p:blipFill>
        <p:spPr>
          <a:xfrm>
            <a:off x="0" y="0"/>
            <a:ext cx="9144000" cy="1368360"/>
          </a:xfrm>
          <a:prstGeom prst="rect">
            <a:avLst/>
          </a:prstGeom>
          <a:ln w="0">
            <a:noFill/>
          </a:ln>
        </p:spPr>
      </p:pic>
      <p:pic>
        <p:nvPicPr>
          <p:cNvPr id="6592" name="Picture 3" descr=""/>
          <p:cNvPicPr/>
          <p:nvPr/>
        </p:nvPicPr>
        <p:blipFill>
          <a:blip r:embed="rId2"/>
          <a:stretch/>
        </p:blipFill>
        <p:spPr>
          <a:xfrm>
            <a:off x="1258920" y="2060640"/>
            <a:ext cx="1297080" cy="1528560"/>
          </a:xfrm>
          <a:prstGeom prst="rect">
            <a:avLst/>
          </a:prstGeom>
          <a:ln w="0">
            <a:noFill/>
          </a:ln>
        </p:spPr>
      </p:pic>
      <p:pic>
        <p:nvPicPr>
          <p:cNvPr id="6593" name="Picture 4" descr=""/>
          <p:cNvPicPr/>
          <p:nvPr/>
        </p:nvPicPr>
        <p:blipFill>
          <a:blip r:embed="rId3"/>
          <a:stretch/>
        </p:blipFill>
        <p:spPr>
          <a:xfrm>
            <a:off x="6948360" y="1989000"/>
            <a:ext cx="1444680" cy="1573200"/>
          </a:xfrm>
          <a:prstGeom prst="rect">
            <a:avLst/>
          </a:prstGeom>
          <a:ln w="0">
            <a:noFill/>
          </a:ln>
        </p:spPr>
      </p:pic>
      <p:sp>
        <p:nvSpPr>
          <p:cNvPr id="6594" name="Rectangle 5"/>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p:txBody>
      </p:sp>
      <p:sp>
        <p:nvSpPr>
          <p:cNvPr id="6595"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395280" y="1268280"/>
            <a:ext cx="8748720" cy="45165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σιαρδής &amp; Πασιαρδή (2000) συγκαταλέγουν στους παράγοντε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αποτελεσματικότητα των σχολείων, μεταξύ άλλων, την υλικοτεχνική υποδομή και</a:t>
            </a:r>
            <a:r>
              <a:rPr b="0" lang="en-US" sz="2800" spc="-1" strike="noStrike">
                <a:solidFill>
                  <a:srgbClr val="000000"/>
                </a:solidFill>
                <a:latin typeface="Times New Roman"/>
              </a:rPr>
              <a:t> </a:t>
            </a:r>
            <a:r>
              <a:rPr b="0" lang="el-GR" sz="2800" spc="-1" strike="noStrike">
                <a:solidFill>
                  <a:srgbClr val="000000"/>
                </a:solidFill>
                <a:latin typeface="Times New Roman"/>
              </a:rPr>
              <a:t>τους </a:t>
            </a:r>
            <a:r>
              <a:rPr b="1" lang="el-GR" sz="2800" spc="-1" strike="noStrike">
                <a:solidFill>
                  <a:srgbClr val="000000"/>
                </a:solidFill>
                <a:latin typeface="Times New Roman"/>
              </a:rPr>
              <a:t>οικονομικούς πόρους</a:t>
            </a:r>
            <a:r>
              <a:rPr b="0" lang="el-GR" sz="2800" spc="-1" strike="noStrike">
                <a:solidFill>
                  <a:srgbClr val="000000"/>
                </a:solidFill>
                <a:latin typeface="Times New Roman"/>
              </a:rPr>
              <a:t>. </a:t>
            </a:r>
            <a:br>
              <a:rPr sz="2000"/>
            </a:br>
            <a:endParaRPr b="0" lang="en-US" sz="2800" spc="-1" strike="noStrike">
              <a:solidFill>
                <a:srgbClr val="ffffff"/>
              </a:solidFill>
              <a:latin typeface="Times New Roman"/>
            </a:endParaRPr>
          </a:p>
        </p:txBody>
      </p:sp>
      <p:grpSp>
        <p:nvGrpSpPr>
          <p:cNvPr id="6411" name="Group 2"/>
          <p:cNvGrpSpPr/>
          <p:nvPr/>
        </p:nvGrpSpPr>
        <p:grpSpPr>
          <a:xfrm>
            <a:off x="0" y="306360"/>
            <a:ext cx="9140760" cy="6548400"/>
            <a:chOff x="0" y="306360"/>
            <a:chExt cx="9140760" cy="6548400"/>
          </a:xfrm>
        </p:grpSpPr>
        <p:grpSp>
          <p:nvGrpSpPr>
            <p:cNvPr id="6412" name="Group 3"/>
            <p:cNvGrpSpPr/>
            <p:nvPr/>
          </p:nvGrpSpPr>
          <p:grpSpPr>
            <a:xfrm>
              <a:off x="0" y="306360"/>
              <a:ext cx="9140760" cy="6548400"/>
              <a:chOff x="0" y="306360"/>
              <a:chExt cx="9140760" cy="6548400"/>
            </a:xfrm>
          </p:grpSpPr>
          <p:sp>
            <p:nvSpPr>
              <p:cNvPr id="6413" name="Line 4"/>
              <p:cNvSpPr/>
              <p:nvPr/>
            </p:nvSpPr>
            <p:spPr>
              <a:xfrm>
                <a:off x="179280" y="30636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37800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613872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30636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684360" y="1989000"/>
            <a:ext cx="820404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395280" y="1268280"/>
            <a:ext cx="8748720" cy="45165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άλογα με την επάρκεια και την</a:t>
            </a:r>
            <a:r>
              <a:rPr b="0" lang="en-US" sz="2800" spc="-1" strike="noStrike">
                <a:solidFill>
                  <a:srgbClr val="000000"/>
                </a:solidFill>
                <a:latin typeface="Times New Roman"/>
              </a:rPr>
              <a:t> </a:t>
            </a:r>
            <a:r>
              <a:rPr b="0" lang="el-GR" sz="2800" spc="-1" strike="noStrike">
                <a:solidFill>
                  <a:srgbClr val="000000"/>
                </a:solidFill>
                <a:latin typeface="Times New Roman"/>
              </a:rPr>
              <a:t>καταλληλότητα διοχέτευσής τους, </a:t>
            </a:r>
            <a:r>
              <a:rPr b="1" lang="el-GR" sz="2800" spc="-1" strike="noStrike">
                <a:solidFill>
                  <a:srgbClr val="000000"/>
                </a:solidFill>
                <a:latin typeface="Times New Roman"/>
              </a:rPr>
              <a:t>οι οικονομικοί πόροι </a:t>
            </a:r>
            <a:r>
              <a:rPr b="0" lang="el-GR" sz="2800" spc="-1" strike="noStrike">
                <a:solidFill>
                  <a:srgbClr val="000000"/>
                </a:solidFill>
                <a:latin typeface="Times New Roman"/>
              </a:rPr>
              <a:t>διευκολύνουν ή περιορίζουν</a:t>
            </a:r>
            <a:r>
              <a:rPr b="0" lang="en-US" sz="2800" spc="-1" strike="noStrike">
                <a:solidFill>
                  <a:srgbClr val="000000"/>
                </a:solidFill>
                <a:latin typeface="Times New Roman"/>
              </a:rPr>
              <a:t> </a:t>
            </a:r>
            <a:r>
              <a:rPr b="0" lang="el-GR" sz="2800" spc="-1" strike="noStrike">
                <a:solidFill>
                  <a:srgbClr val="000000"/>
                </a:solidFill>
                <a:latin typeface="Times New Roman"/>
              </a:rPr>
              <a:t>τη λειτουργία της σχολικής μονάδας .</a:t>
            </a:r>
            <a:br>
              <a:rPr sz="2000"/>
            </a:br>
            <a:endParaRPr b="0" lang="en-US" sz="2800" spc="-1" strike="noStrike">
              <a:solidFill>
                <a:srgbClr val="ffffff"/>
              </a:solidFill>
              <a:latin typeface="Times New Roman"/>
            </a:endParaRPr>
          </a:p>
        </p:txBody>
      </p:sp>
      <p:grpSp>
        <p:nvGrpSpPr>
          <p:cNvPr id="6420" name="Group 2"/>
          <p:cNvGrpSpPr/>
          <p:nvPr/>
        </p:nvGrpSpPr>
        <p:grpSpPr>
          <a:xfrm>
            <a:off x="0" y="306360"/>
            <a:ext cx="9140760" cy="6548400"/>
            <a:chOff x="0" y="306360"/>
            <a:chExt cx="9140760" cy="6548400"/>
          </a:xfrm>
        </p:grpSpPr>
        <p:grpSp>
          <p:nvGrpSpPr>
            <p:cNvPr id="6421" name="Group 3"/>
            <p:cNvGrpSpPr/>
            <p:nvPr/>
          </p:nvGrpSpPr>
          <p:grpSpPr>
            <a:xfrm>
              <a:off x="0" y="306360"/>
              <a:ext cx="9140760" cy="6548400"/>
              <a:chOff x="0" y="306360"/>
              <a:chExt cx="9140760" cy="6548400"/>
            </a:xfrm>
          </p:grpSpPr>
          <p:sp>
            <p:nvSpPr>
              <p:cNvPr id="6422" name="Line 4"/>
              <p:cNvSpPr/>
              <p:nvPr/>
            </p:nvSpPr>
            <p:spPr>
              <a:xfrm>
                <a:off x="179280" y="30636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37800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613872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30636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684360" y="1989000"/>
            <a:ext cx="820404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η χρηματοδότηση της δημόσιας εκπαίδευσης πραγματοποιείται, κατά</a:t>
            </a:r>
            <a:br>
              <a:rPr sz="2800"/>
            </a:br>
            <a:r>
              <a:rPr b="0" lang="el-GR" sz="2800" spc="-1" strike="noStrike">
                <a:solidFill>
                  <a:srgbClr val="000000"/>
                </a:solidFill>
                <a:latin typeface="Times New Roman"/>
              </a:rPr>
              <a:t>κύριο λόγο, από το κράτος μέσω του τακτικού προϋπολογισμού και του</a:t>
            </a:r>
            <a:br>
              <a:rPr sz="2800"/>
            </a:br>
            <a:r>
              <a:rPr b="0" lang="el-GR" sz="2800" spc="-1" strike="noStrike">
                <a:solidFill>
                  <a:srgbClr val="000000"/>
                </a:solidFill>
                <a:latin typeface="Times New Roman"/>
              </a:rPr>
              <a:t>Προγράμματος Δημοσίων Επενδύσεων και σε μικρότερο βαθμό από μη κρατικές</a:t>
            </a:r>
            <a:br>
              <a:rPr sz="2800"/>
            </a:br>
            <a:r>
              <a:rPr b="0" lang="el-GR" sz="2800" spc="-1" strike="noStrike">
                <a:solidFill>
                  <a:srgbClr val="000000"/>
                </a:solidFill>
                <a:latin typeface="Times New Roman"/>
              </a:rPr>
              <a:t>πηγές. </a:t>
            </a:r>
            <a:endParaRPr b="0" lang="en-US" sz="2800" spc="-1" strike="noStrike">
              <a:solidFill>
                <a:srgbClr val="ffffff"/>
              </a:solidFill>
              <a:latin typeface="Times New Roman"/>
            </a:endParaRPr>
          </a:p>
        </p:txBody>
      </p:sp>
      <p:grpSp>
        <p:nvGrpSpPr>
          <p:cNvPr id="6429" name="Group 2"/>
          <p:cNvGrpSpPr/>
          <p:nvPr/>
        </p:nvGrpSpPr>
        <p:grpSpPr>
          <a:xfrm>
            <a:off x="0" y="115920"/>
            <a:ext cx="9140760" cy="6548400"/>
            <a:chOff x="0" y="115920"/>
            <a:chExt cx="9140760" cy="6548400"/>
          </a:xfrm>
        </p:grpSpPr>
        <p:grpSp>
          <p:nvGrpSpPr>
            <p:cNvPr id="6430" name="Group 3"/>
            <p:cNvGrpSpPr/>
            <p:nvPr/>
          </p:nvGrpSpPr>
          <p:grpSpPr>
            <a:xfrm>
              <a:off x="0" y="115920"/>
              <a:ext cx="9140760" cy="6548400"/>
              <a:chOff x="0" y="115920"/>
              <a:chExt cx="9140760" cy="6548400"/>
            </a:xfrm>
          </p:grpSpPr>
          <p:sp>
            <p:nvSpPr>
              <p:cNvPr id="64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6"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οσοστό των συνολικών χρηματοδοτικών πόρων που διατίθενται στην εκπαίδευση αποτελεί μια κρίσιμη απόφαση για τις εθνικές κυβερνήσεις.</a:t>
            </a:r>
            <a:endParaRPr b="0" lang="en-US" sz="2800" spc="-1" strike="noStrike">
              <a:solidFill>
                <a:srgbClr val="ffffff"/>
              </a:solidFill>
              <a:latin typeface="Times New Roman"/>
            </a:endParaRPr>
          </a:p>
        </p:txBody>
      </p:sp>
      <p:grpSp>
        <p:nvGrpSpPr>
          <p:cNvPr id="6438" name="Group 2"/>
          <p:cNvGrpSpPr/>
          <p:nvPr/>
        </p:nvGrpSpPr>
        <p:grpSpPr>
          <a:xfrm>
            <a:off x="0" y="115920"/>
            <a:ext cx="9140760" cy="6548400"/>
            <a:chOff x="0" y="115920"/>
            <a:chExt cx="9140760" cy="6548400"/>
          </a:xfrm>
        </p:grpSpPr>
        <p:grpSp>
          <p:nvGrpSpPr>
            <p:cNvPr id="6439" name="Group 3"/>
            <p:cNvGrpSpPr/>
            <p:nvPr/>
          </p:nvGrpSpPr>
          <p:grpSpPr>
            <a:xfrm>
              <a:off x="0" y="115920"/>
              <a:ext cx="9140760" cy="6548400"/>
              <a:chOff x="0" y="115920"/>
              <a:chExt cx="9140760" cy="6548400"/>
            </a:xfrm>
          </p:grpSpPr>
          <p:sp>
            <p:nvSpPr>
              <p:cNvPr id="64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5"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Text Box 1"/>
          <p:cNvSpPr/>
          <p:nvPr/>
        </p:nvSpPr>
        <p:spPr>
          <a:xfrm>
            <a:off x="863640" y="1413000"/>
            <a:ext cx="7596000" cy="439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Πρόκειται για μια επένδυση της οποίας τα κέρδη γίνονται αντιληπτά μακροπρόθεσμα</a:t>
            </a:r>
            <a:br>
              <a:rPr sz="2800"/>
            </a:br>
            <a:r>
              <a:rPr b="0" lang="el-GR" sz="2800" spc="-1" strike="noStrike">
                <a:solidFill>
                  <a:srgbClr val="000000"/>
                </a:solidFill>
                <a:latin typeface="Times New Roman"/>
              </a:rPr>
              <a:t> και έχουν αισθητό αντίκτυπο</a:t>
            </a:r>
            <a:br>
              <a:rPr sz="2800"/>
            </a:br>
            <a:r>
              <a:rPr b="0" lang="el-GR" sz="2800" spc="-1" strike="noStrike">
                <a:solidFill>
                  <a:srgbClr val="000000"/>
                </a:solidFill>
                <a:latin typeface="Times New Roman"/>
              </a:rPr>
              <a:t>σε κρίσιμους τομείς, </a:t>
            </a:r>
            <a:br>
              <a:rPr sz="2800"/>
            </a:br>
            <a:r>
              <a:rPr b="0" lang="el-GR" sz="2800" spc="-1" strike="noStrike">
                <a:solidFill>
                  <a:srgbClr val="000000"/>
                </a:solidFill>
                <a:latin typeface="Times New Roman"/>
              </a:rPr>
              <a:t>όπως η κοινωνική συνοχή,</a:t>
            </a:r>
            <a:br>
              <a:rPr sz="2800"/>
            </a:br>
            <a:r>
              <a:rPr b="0" lang="el-GR" sz="2800" spc="-1" strike="noStrike">
                <a:solidFill>
                  <a:srgbClr val="000000"/>
                </a:solidFill>
                <a:latin typeface="Times New Roman"/>
              </a:rPr>
              <a:t>ο διεθνής ανταγωνισμός και η</a:t>
            </a:r>
            <a:br>
              <a:rPr sz="2800"/>
            </a:br>
            <a:r>
              <a:rPr b="0" lang="el-GR" sz="2800" spc="-1" strike="noStrike">
                <a:solidFill>
                  <a:srgbClr val="000000"/>
                </a:solidFill>
                <a:latin typeface="Times New Roman"/>
              </a:rPr>
              <a:t>βιώσιμη ανάπτυξη.</a:t>
            </a:r>
            <a:endParaRPr b="0" lang="en-US" sz="2800" spc="-1" strike="noStrike">
              <a:solidFill>
                <a:srgbClr val="ffffff"/>
              </a:solidFill>
              <a:latin typeface="Times New Roman"/>
            </a:endParaRPr>
          </a:p>
        </p:txBody>
      </p:sp>
      <p:grpSp>
        <p:nvGrpSpPr>
          <p:cNvPr id="6447" name="Group 2"/>
          <p:cNvGrpSpPr/>
          <p:nvPr/>
        </p:nvGrpSpPr>
        <p:grpSpPr>
          <a:xfrm>
            <a:off x="0" y="115920"/>
            <a:ext cx="9140760" cy="6548400"/>
            <a:chOff x="0" y="115920"/>
            <a:chExt cx="9140760" cy="6548400"/>
          </a:xfrm>
        </p:grpSpPr>
        <p:grpSp>
          <p:nvGrpSpPr>
            <p:cNvPr id="6448" name="Group 3"/>
            <p:cNvGrpSpPr/>
            <p:nvPr/>
          </p:nvGrpSpPr>
          <p:grpSpPr>
            <a:xfrm>
              <a:off x="0" y="115920"/>
              <a:ext cx="9140760" cy="6548400"/>
              <a:chOff x="0" y="115920"/>
              <a:chExt cx="9140760" cy="6548400"/>
            </a:xfrm>
          </p:grpSpPr>
          <p:sp>
            <p:nvSpPr>
              <p:cNvPr id="64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4"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απάνες για την εκπαίδευση διακρίνονται σε: </a:t>
            </a:r>
            <a:r>
              <a:rPr b="1" lang="el-GR" sz="2800" spc="-1" strike="noStrike">
                <a:solidFill>
                  <a:srgbClr val="000000"/>
                </a:solidFill>
                <a:latin typeface="Times New Roman"/>
              </a:rPr>
              <a:t>δαπάνες παγίου κεφαλαίου και </a:t>
            </a:r>
            <a:br>
              <a:rPr sz="2800"/>
            </a:br>
            <a:r>
              <a:rPr b="1" lang="el-GR" sz="2800" spc="-1" strike="noStrike">
                <a:solidFill>
                  <a:srgbClr val="000000"/>
                </a:solidFill>
                <a:latin typeface="Times New Roman"/>
              </a:rPr>
              <a:t>σε</a:t>
            </a:r>
            <a:br>
              <a:rPr sz="2800"/>
            </a:br>
            <a:r>
              <a:rPr b="1" lang="el-GR" sz="2800" spc="-1" strike="noStrike">
                <a:solidFill>
                  <a:srgbClr val="000000"/>
                </a:solidFill>
                <a:latin typeface="Times New Roman"/>
              </a:rPr>
              <a:t>τρέχουσες δαπάνες.</a:t>
            </a:r>
            <a:br>
              <a:rPr sz="2800"/>
            </a:br>
            <a:r>
              <a:rPr b="1" lang="el-GR" sz="2800" spc="-1" strike="noStrike">
                <a:solidFill>
                  <a:srgbClr val="000000"/>
                </a:solidFill>
                <a:latin typeface="Times New Roman"/>
              </a:rPr>
              <a:t>Οι δαπάνες παγίου κεφαλαίου </a:t>
            </a:r>
            <a:r>
              <a:rPr b="0" lang="el-GR" sz="2800" spc="-1" strike="noStrike">
                <a:solidFill>
                  <a:srgbClr val="000000"/>
                </a:solidFill>
                <a:latin typeface="Times New Roman"/>
              </a:rPr>
              <a:t>αφορούν στα έξοδα κατασκευής</a:t>
            </a:r>
            <a:br>
              <a:rPr sz="2800"/>
            </a:br>
            <a:r>
              <a:rPr b="0" lang="el-GR" sz="2800" spc="-1" strike="noStrike">
                <a:solidFill>
                  <a:srgbClr val="000000"/>
                </a:solidFill>
                <a:latin typeface="Times New Roman"/>
              </a:rPr>
              <a:t>και συντήρησης σχολικών κτιρίων και υποδομών, καθώς και στην προμήθεια και</a:t>
            </a:r>
            <a:br>
              <a:rPr sz="2800"/>
            </a:br>
            <a:r>
              <a:rPr b="0" lang="el-GR" sz="2800" spc="-1" strike="noStrike">
                <a:solidFill>
                  <a:srgbClr val="000000"/>
                </a:solidFill>
                <a:latin typeface="Times New Roman"/>
              </a:rPr>
              <a:t>συντήρηση του εξοπλισμού (πρόγραμμα δημοσίων επενδύσεων).</a:t>
            </a:r>
            <a:endParaRPr b="0" lang="en-US" sz="2800" spc="-1" strike="noStrike">
              <a:solidFill>
                <a:srgbClr val="ffffff"/>
              </a:solidFill>
              <a:latin typeface="Times New Roman"/>
            </a:endParaRPr>
          </a:p>
        </p:txBody>
      </p:sp>
      <p:grpSp>
        <p:nvGrpSpPr>
          <p:cNvPr id="6456" name="Group 2"/>
          <p:cNvGrpSpPr/>
          <p:nvPr/>
        </p:nvGrpSpPr>
        <p:grpSpPr>
          <a:xfrm>
            <a:off x="0" y="115920"/>
            <a:ext cx="9140760" cy="6548400"/>
            <a:chOff x="0" y="115920"/>
            <a:chExt cx="9140760" cy="6548400"/>
          </a:xfrm>
        </p:grpSpPr>
        <p:grpSp>
          <p:nvGrpSpPr>
            <p:cNvPr id="6457" name="Group 3"/>
            <p:cNvGrpSpPr/>
            <p:nvPr/>
          </p:nvGrpSpPr>
          <p:grpSpPr>
            <a:xfrm>
              <a:off x="0" y="115920"/>
              <a:ext cx="9140760" cy="6548400"/>
              <a:chOff x="0" y="115920"/>
              <a:chExt cx="9140760" cy="6548400"/>
            </a:xfrm>
          </p:grpSpPr>
          <p:sp>
            <p:nvSpPr>
              <p:cNvPr id="64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3"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τρέχουσες δαπάνες </a:t>
            </a:r>
            <a:r>
              <a:rPr b="0" lang="el-GR" sz="2800" spc="-1" strike="noStrike">
                <a:solidFill>
                  <a:srgbClr val="000000"/>
                </a:solidFill>
                <a:latin typeface="Times New Roman"/>
              </a:rPr>
              <a:t>αφορούν </a:t>
            </a:r>
            <a:br>
              <a:rPr sz="2800"/>
            </a:br>
            <a:r>
              <a:rPr b="0" lang="el-GR" sz="2800" spc="-1" strike="noStrike">
                <a:solidFill>
                  <a:srgbClr val="000000"/>
                </a:solidFill>
                <a:latin typeface="Times New Roman"/>
              </a:rPr>
              <a:t>σε αγαθά και υπηρεσίες για την υποστήριξη της  διαδικασίας ενώ σε αυτές συμπεριλαμβάνονται</a:t>
            </a:r>
            <a:br>
              <a:rPr sz="2800"/>
            </a:br>
            <a:r>
              <a:rPr b="0" lang="el-GR" sz="2800" spc="-1" strike="noStrike">
                <a:solidFill>
                  <a:srgbClr val="000000"/>
                </a:solidFill>
                <a:latin typeface="Times New Roman"/>
              </a:rPr>
              <a:t>οι μισθοί εκπαιδευτικού και διοικητικού προσωπικού, </a:t>
            </a:r>
            <a:br>
              <a:rPr sz="2800"/>
            </a:br>
            <a:r>
              <a:rPr b="0" lang="el-GR" sz="2800" spc="-1" strike="noStrike">
                <a:solidFill>
                  <a:srgbClr val="000000"/>
                </a:solidFill>
                <a:latin typeface="Times New Roman"/>
              </a:rPr>
              <a:t>η παραγωγή εκπαιδευτικού υλικού και μέσων, διάφορες επιδοτήσεις και ενοικιάσεις κτιρίων (τακτικός προϋπολογισμός).</a:t>
            </a:r>
            <a:endParaRPr b="0" lang="en-US" sz="2800" spc="-1" strike="noStrike">
              <a:solidFill>
                <a:srgbClr val="ffffff"/>
              </a:solidFill>
              <a:latin typeface="Times New Roman"/>
            </a:endParaRPr>
          </a:p>
        </p:txBody>
      </p:sp>
      <p:grpSp>
        <p:nvGrpSpPr>
          <p:cNvPr id="6465" name="Group 2"/>
          <p:cNvGrpSpPr/>
          <p:nvPr/>
        </p:nvGrpSpPr>
        <p:grpSpPr>
          <a:xfrm>
            <a:off x="0" y="115920"/>
            <a:ext cx="9140760" cy="6548400"/>
            <a:chOff x="0" y="115920"/>
            <a:chExt cx="9140760" cy="6548400"/>
          </a:xfrm>
        </p:grpSpPr>
        <p:grpSp>
          <p:nvGrpSpPr>
            <p:cNvPr id="6466" name="Group 3"/>
            <p:cNvGrpSpPr/>
            <p:nvPr/>
          </p:nvGrpSpPr>
          <p:grpSpPr>
            <a:xfrm>
              <a:off x="0" y="115920"/>
              <a:ext cx="9140760" cy="6548400"/>
              <a:chOff x="0" y="115920"/>
              <a:chExt cx="9140760" cy="6548400"/>
            </a:xfrm>
          </p:grpSpPr>
          <p:sp>
            <p:nvSpPr>
              <p:cNvPr id="64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2"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8:09Z</dcterms:modified>
  <cp:revision>1</cp:revision>
  <dc:subject/>
  <dc:title/>
</cp:coreProperties>
</file>